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BB6E-BA76-4C01-8AAE-249E0100E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BC26-DF55-4894-9525-D2A77DE4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21ED90-9075-4BE1-A0E2-EDCB0CF0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287520-0642-4A4D-925E-A941D4D5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2D3B94-D980-48BA-B830-08DA9796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A373F-C549-4CBA-8640-9BC5C342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46D052-86E2-4ED6-A330-8CD6B6D3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635087-A447-47CF-805F-B0AAA04B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1E93AF-1B32-4F3E-B4E0-3CD6D7F4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6D455E-FFDE-4D91-A155-436060678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B11892-A67B-4EB9-ACF2-81B21387B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3C55BA-28CB-4B0B-B9C5-77CE0D5DC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6197-51E2-4146-8232-524C32859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94542C-E5CB-44DB-BE54-10F25201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BB9A41-5C28-4BEA-8AB2-7EE235F3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38F14C-9262-4319-A870-C057DBE4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C9C346-182A-48EB-9725-C6328124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897315-E2FA-432E-B7D6-C7644770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5651C4-8AF9-4B09-A94C-DBB19C2E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47F48C-BB7D-4D97-BCF2-B596A162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444E73-F0FF-44F9-B117-A193163F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B18B3D-102B-4DDC-AF12-990D413F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03E69-3E83-45EB-AC8C-00234159C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661A-1573-4174-8631-52C039F93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1369E-7C52-4685-8948-D13E48BC4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ACAB3C-413B-4D69-AA50-CC3F7565A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1494D7-46C8-415D-AADE-4C87E787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8B45A5-F284-43CD-BC09-AB374515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2151C-1710-4111-B286-BDBCF0B1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2F82B-298F-46B3-AA46-AB923A5B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237910-FAC3-49D8-8557-79DB7744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81D56-DAE0-4451-9682-0924800D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313440-73CD-4A85-9E6C-7473D89E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071365-7692-409F-9006-F1C6C66D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3585-67CF-44D6-BEA0-6823C3DDE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AB5D0-6B40-4C99-B368-CC0CED12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A54D2A-1803-4102-8985-A06E8AA66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F9DE04-2CDE-4860-B95F-2518324AB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F81C03-6581-4AAD-A0D3-FFC2E0BA9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4A8F79-962C-45C3-85F4-558FA0A1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2694E4-8989-40F3-AC09-4D4BC10BD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196788-B0D7-4598-BA26-668E1932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12743D-B41D-47BE-87C8-7BB9515E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4AC847-A76F-49DB-93C8-B98578DB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0047DA-E71C-4663-B4CA-55247E1B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FAC5A-6B50-466C-AE30-DB995A1C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2D3AEE-6B02-444C-94E0-B8009D4C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59ED01-B036-4DDD-99F5-5FA75A7A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63C194-7E24-4093-9F55-B184E38D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FBBDDD-EA61-43AC-B733-1E60E416B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5913F6-5DD7-4C75-A005-E75BFFA02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82128D-0940-436F-B363-6E007846B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62BD3B-6CD0-44F5-902B-5EFF70A1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AEF18E-F54C-4ADD-BCD0-8808EC07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93960D-C735-4C62-A598-92912A9F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730925-92FD-4B78-8F77-82ED8874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CB565-6941-4029-BA5C-5C472DD6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D064B9-71F7-47BE-AB9C-1B5C3C00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7FC649-636D-4FBF-AB6A-040B7138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1C2796-D7F7-4337-81AD-514582CC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659F91-0CEF-4FA3-A70C-D4A6F10B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515BD1-D4EB-42FE-B498-48AD0BA3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87ABAE-A713-4EA5-86C2-0DB276436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C04932-1F25-416C-A735-A9E19FDE8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A0CB47-955E-4C10-BAB1-ED23CD844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141C75-EF85-4F01-8345-D5B791DA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5C6124-61C6-4325-8A04-2EE4C7DC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6E60-00BE-4E9D-B425-2C3FFD0F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83F9CD-1AA0-4765-92F6-711C99F8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C6E6BD-51A5-4702-956A-281DD646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673826-F8B5-4A8F-9F8B-6587754E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BB7BB6-4C3C-4672-AB87-61B3A363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CD1887-C11F-4A3A-8AE5-12A9F1BC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1CC66C-16D5-48E4-ADBE-06888BA7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54060F-C1B6-4A91-B6DA-B6F3B66F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C1B962-4CFD-4AAA-801E-D6110CCFC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B43977-47B0-4EFF-AF9A-A6CB1A5F1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F76594-EDBC-4B47-A665-CDE68A8F7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BC879-FFDD-4D37-BCDA-33919074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1540FF-C63B-4BF8-8B21-C1EB10FA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094FAD-0D75-4876-94AC-80219DB7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1E2D88-C707-4890-83C7-5954A89E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DD71E7-C6AC-4F1B-8A93-794065DB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FE6021-DB0C-4DBB-98EB-776144DE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298D50-F83E-4A36-A31C-143B8F5B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C07924-5126-4E23-A539-6CAF8AC0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B12025-DB7E-4CFD-9D34-09DF40F3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6AE1F2-7DCD-49A7-B013-688EF612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94A6CC-4491-440C-8F43-A6A49DC52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FC75-3BDF-4A22-84C1-208D470D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A0DA83-AE17-4450-9CB4-28557EE4B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84D8B1-E1C8-4D44-A478-98E53BA76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277CF7-57F3-4F9E-92C6-D20861E0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72D661-1B50-4ACC-AD96-8512276D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15B855-90D4-4C42-9A5A-E8821D1F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94708A-44C8-474A-811A-5C6DC04B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1D842B-4411-4732-BCE3-16738FE3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E5006C-EE14-4771-867C-36758824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BB8E2C-5088-433A-B0FF-66221027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BDEDFA-B229-4EF6-B701-325EE02E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648A-4E6A-490F-814F-30E15699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402404-2257-4D8A-A165-3D9D4E50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E47165-3A61-4344-A2C8-716ABBAEE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47A0B3-D8C0-412B-899F-064989628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1B050D-87BA-4382-89C0-A0E410141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C3B010-0B4D-499A-AEDD-6B793805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1E6514-13C0-4F1A-A340-D62192F8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3A5B25-021B-4E13-B367-0BDF154E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5AF9B3-6122-48BA-A9A0-B8F33670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142C75-934C-4E00-8DCD-67DAD94E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D53B82-C2B3-4449-9C95-5BA8DFC4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7161-FDAF-443C-A756-A6C4A5F6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8BA7-B34B-4507-86B2-93E1924C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72B257-11F1-440F-986B-3C66842A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D477FB-CA40-4022-98C0-13A5BBD5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F5D2FC-BB28-46D0-8EE6-184FDA76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4A1861-6A38-4045-B6CA-109C1DCD6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02B31A-1F69-4B23-A28A-6AD74184D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79B9D7-EA89-42FA-B47B-C1C554BF8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7EC759-55DA-4853-8793-24AF9D7B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31744E-6BC8-4BA8-AF1C-F0E09A60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0AA6D5-B6E2-40A7-8C78-00803AB2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CF4A57-F8E2-4B5F-8BB1-730E29BB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398A-7AEB-4009-BE67-172A81B5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1EA035-78DA-407C-A9E6-5B959FAC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125BD2-AD11-4AC0-9038-1B800972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4F56B8-3A79-44A7-8080-735B255A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AC4BA4-4ABF-4E90-B913-D3E30CB0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50B7D4-E026-4886-99F1-B909BDB9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FA4AE4-C9BF-4B17-96BB-69A894EBA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DBA114-1EF7-49B2-BDE4-2DE26FD12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B87685-A3C2-4B22-B497-44B33E164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C44342-F440-41AC-B596-B691FEA6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1CECE4-1482-427B-BCF0-F29FCAD2F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9120-4975-44A6-A262-D36CF7AB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C9350F-967E-42FB-9A47-4A8CD2C7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26946F-62DD-4EA9-94C7-6B0FD4AF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E758E9-970E-4032-86DF-72E9AE8A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A0D360-7623-475D-96AA-86BF252C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1DD4C1-7370-4849-9EB5-7383EA76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5162D7-AE74-4F5C-BD86-003B3F3B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6FB2B2-8021-449B-8F0C-892763ED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90327F-1FA9-451D-81F8-22BFDD313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9862F3-F08F-4B05-A8EF-4B516858C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AAF8-E3A6-427F-B30D-3ACF81CA4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C7C0-01AC-4FC0-82C1-3DD3AF23E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2BC75-3D3C-4A8B-8332-E63E69174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3C06B-E765-4DDF-873C-11C9BB10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249DF-445C-4A16-B0BC-6EB4E543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5CA30-13F6-4147-B1C0-F1869616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7F222-63BD-4BEE-9BD8-81D2A0F6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F447-16A9-4D2B-807B-33898862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4D8E7-586B-4C6D-95FB-114029AC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F9E7A-B7C6-48CA-985E-9D882B7E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21A32-89D7-4102-BDD0-FA4A4170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0DBC0-3443-45D8-8456-9958716E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7D335-94A3-4591-BA8C-86165AF1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8DC23-B2FE-4479-9A76-A53240CEA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43A16-774A-460A-911C-B4BE6340B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793BA-5919-4971-B54B-1500C568C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9C70E-7412-450B-AF18-CF8B0C5C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03AD8-C61D-467F-983B-E9525B21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EC84-1051-4FA5-8EF2-307E6E1F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50460-D813-4445-81C3-433890F2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34634-5812-4A79-9B6A-DF574911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F4B99-2F27-4641-A4AF-9BC73D04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5267E-6793-4EF2-AAAA-5D4564CF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036C4-5DF6-44DA-9220-78AA8D9C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44B67-D613-4C2B-86E0-03E8E383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9262C-D727-4D03-AB76-3A18E2FC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D2C97-9155-4092-AEA6-1A3B94317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D684B-424B-4BC1-B77A-FDEAAD08A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23D3C-D59A-42A9-8786-17E934765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C3A8-4C16-47CC-9D91-7B101342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DFB7A-2F14-4DFF-9084-447E62DC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5D464-C38A-49F4-9CD5-C3543025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E244D-AA8C-48D9-9729-1DF6C34E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DE91E-CA54-4055-855B-F6A5A7E1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A5AE8-CEC5-4663-A31C-CAD630FC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7F224-244D-4085-886F-36B930D3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90311-A70B-4BEB-942C-9FB6A099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CDF40-196D-47FE-9AD9-7A4CC04D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E52AB-48A8-45CE-A75C-6B5260E8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29726-0131-40A3-BEAF-50385F2C3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1014-A0D9-4909-BB94-6C875017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63DF5-B5C2-4F81-845D-B8AF7C803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17E17-BA71-40A1-A6B2-C5C11DD30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AA8A9-C930-46C2-AC07-AEA849DA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3A227-A7B9-4E5B-93F4-36A44E09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FE481-F3AF-4D8F-9B64-248DABF3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F3EAA-9F4B-448E-819F-2388003B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F9C7D-1447-4798-8B4C-619F583B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60AED-365D-44D3-83B2-50FA1EDD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1BB07-153B-4FE2-8DCD-6C04E44D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1044C-8448-4675-BB74-FE2A3096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92B7-9F43-4E75-9300-A44BD7C4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9386A-5639-41E1-8419-31C1927C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0DD71-E757-4C95-B9ED-BBE5E2CD8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17B93-CC9E-46F5-B008-76BFC6BE1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AA81F-4F32-4F1E-ACB8-41ECB44EF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FCAD1-6383-4336-BADA-B4856D33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A8BC8-F2EE-44D0-A037-091DB6E2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805FF-03A5-4680-B19F-C78DD3B8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F6B29-91E7-4C9B-B84F-EE330E05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19829-32C0-40C4-87BF-FA0E228C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F2EB0-AA10-47EF-BBD6-DEAB5A71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590B-ADC9-4B27-B4D0-1F49E9D8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59005-4E4E-4FA7-A8CF-FD322EE8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446C3-78A9-4A0B-8839-03574FB8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9968C-677E-411F-976C-F74772D9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2806B-48A4-48FF-BF8D-0E3CB74B4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46841-0A2F-49DF-85BB-09AD65FD9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CF136-8E98-4935-BA3A-6FB894622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E574D-D6B7-43ED-8F57-0B2A5ABC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A33C0-56F7-4704-A6B9-B218D271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96549-066A-4B72-816A-9B8E925B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628E2-A6BE-49AF-B765-8BB7F1D1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9B4E-3BA4-4658-BB52-059CD3A3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2B90F-A6C8-4721-B227-D2214AB9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F0196-67D4-445C-8C08-F7244700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C9D9B-5FD6-435F-8DAF-C21CAEEE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4923D-5EAB-4015-BE74-D0F4DE80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12794-AAC0-445B-8BD6-0F1FA381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ADB80-0FE6-4131-B1EC-2B84CDAD1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21D15-4805-49E3-BB29-81CC337D0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5CDD30-4C89-4C2D-8D13-6FA5B7081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BD391-7F49-4EE8-BE33-BEFCB96F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FA2312-2E63-4FEA-AB71-5A9B58F1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2F8A-3E91-44B3-BC45-B3AF0D655514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9079-8569-4412-AC3C-BC2D543BC53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8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E95C-5B71-4E99-8E41-C712A03899A1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3FAF-3476-4B16-9273-1697BB67BB9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3DE8-0A7B-4111-A319-D40348656461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129B-E666-4F51-9FF7-CEBC88D568A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E5A9-D516-4248-A9C1-1424C419FC61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0B97-902A-4B94-ABA2-19A2152664D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58C4-F8DD-4E6C-9FBA-9635A477AE03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51FB-4DD3-4FBB-9BC6-F4466962434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4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92E33-272B-47FA-A4FB-443D5EE65010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4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4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60C8-A915-45AE-BF8C-73ADAE8FF60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4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63C6-E677-46A1-B9A6-B5C59F20FD8B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4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4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9AD7-AAC6-455C-9CD7-B7917F4FCF9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4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F33B-7BC0-461C-8874-F05E141EF404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4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4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FCBD-1C8C-4AFE-870F-AFADDD775DC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dt" idx="4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ED5E-D9FF-4EDB-8327-FCBC92D297FE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 type="ftr" idx="5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 type="sldNum" idx="5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1F15-2AD1-478F-AC3B-DD83233D938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5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DC62-3B6C-4BD5-B586-8038A3A76E25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5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5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EA46-ACEA-47F3-8393-BABD6AE67B2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5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D8AC-53D9-40BA-A042-723D5C7A665B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5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5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D627-7647-4977-AF21-1CA8D46A75A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EF75-2508-46E5-A546-AF7C20F5CCED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6101-A3C7-4E81-9484-4D696FD2214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D31C-4FEC-4204-AD6B-48355F0B5D59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17CD-F233-43AC-AB39-5E22FAF0D4C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7A60-2F19-482C-8457-342EB404996C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D429-29AF-4B82-B46C-FCBD0926020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6796-D383-407E-85FB-75B5B15B1883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D6A2-0992-452C-B6D5-D72A07A02E3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4187-B64E-4BD9-B579-65AB88BDC44A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019A-7391-423B-8055-6A5D9237ED5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1D29-4DB8-48E0-A4D0-E4D01B12D1DF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5A3A-31FE-4A99-8E3A-5428C7B5CF2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5592-BDB4-46F2-8E3E-D4C701355005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0BF8-C6A5-4C1C-AFF4-7633E4022FF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503B-3315-479B-9223-E1A7341DA4CC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1128-5792-4F5E-8C40-4370E8A1C7A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8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1 Rectángulo"/>
          <p:cNvSpPr/>
          <p:nvPr/>
        </p:nvSpPr>
        <p:spPr>
          <a:xfrm>
            <a:off x="611280" y="549360"/>
            <a:ext cx="7921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 Rounded MT Bold"/>
              </a:rPr>
              <a:t>Bolilla 5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ffff00"/>
                </a:solidFill>
                <a:uFillTx/>
                <a:latin typeface="Arial Rounded MT Bold"/>
              </a:rPr>
              <a:t>Metabolismo de los lípi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 Rounded MT Bold"/>
              </a:rPr>
              <a:t>- </a:t>
            </a:r>
            <a:r>
              <a:rPr b="1" lang="es-AR" sz="2800" spc="-1" strike="noStrike">
                <a:solidFill>
                  <a:srgbClr val="ffff59"/>
                </a:solidFill>
                <a:latin typeface="Arial Rounded MT Bold"/>
              </a:rPr>
              <a:t>Digestión y absorción de lípid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59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59"/>
                </a:solidFill>
                <a:latin typeface="Arial Rounded MT Bold"/>
              </a:rPr>
              <a:t>Transporte de lípid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59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59"/>
                </a:solidFill>
                <a:latin typeface="Arial Rounded MT Bold"/>
              </a:rPr>
              <a:t>Degradación de Ácidos Gras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59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59"/>
                </a:solidFill>
                <a:latin typeface="Arial Rounded MT Bold"/>
              </a:rPr>
              <a:t>Cuerpos cetónic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Arial Rounded MT Bold"/>
              </a:rPr>
              <a:t>Biosíntesis de Ácidos Gra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 Rounded MT Bold"/>
              </a:rPr>
              <a:t>- Metabolismo del colesterol. Regulación molecula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CBEB-106B-4B0E-8E24-C1227093DE61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791640" y="609120"/>
            <a:ext cx="812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Arial Narrow"/>
              </a:rPr>
              <a:t>Etapas de la Síntesis de Ac. Graso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871280" y="2384280"/>
            <a:ext cx="6643800" cy="330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Compren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Formación de malonil-Co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Reacciones catalizadas por el complejo multienzimático de 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Ácido graso sintas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6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ECF1-178A-464F-AB85-5C6AAC629E9F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83800" y="21564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ff00"/>
                </a:solidFill>
                <a:latin typeface="Arial Narrow"/>
              </a:rPr>
              <a:t>1) Formación de malonil-CoA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8317080" cy="24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una carboxilación que requiere H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como fuente de 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taliza: 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acetil-CoA carboxilas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que usa biotina (Vit B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) como coenz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Es el principal sitio de regulación de la síntesis de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81" name="Object 4"/>
          <p:cNvGraphicFramePr/>
          <p:nvPr/>
        </p:nvGraphicFramePr>
        <p:xfrm>
          <a:off x="431640" y="4365720"/>
          <a:ext cx="8282160" cy="138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4365720"/>
                    <a:ext cx="8282160" cy="13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ángulo 15"/>
          <p:cNvSpPr/>
          <p:nvPr/>
        </p:nvSpPr>
        <p:spPr>
          <a:xfrm rot="5400000">
            <a:off x="3201120" y="3319920"/>
            <a:ext cx="647640" cy="144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Cuadro de texto 17"/>
          <p:cNvSpPr/>
          <p:nvPr/>
        </p:nvSpPr>
        <p:spPr>
          <a:xfrm>
            <a:off x="687240" y="1197000"/>
            <a:ext cx="7704360" cy="268452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cetil-CoA Carboxil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-Proteína transportadora de biot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0" i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Biotina carboxil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-Transcarboxil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- Enzima Alosté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Cuadro de texto 23"/>
          <p:cNvSpPr/>
          <p:nvPr/>
        </p:nvSpPr>
        <p:spPr>
          <a:xfrm>
            <a:off x="1744560" y="333360"/>
            <a:ext cx="5761080" cy="5814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Arial"/>
              </a:rPr>
              <a:t>Acetil-CoA Carboxila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Rectángulo 24"/>
          <p:cNvSpPr/>
          <p:nvPr/>
        </p:nvSpPr>
        <p:spPr>
          <a:xfrm>
            <a:off x="687240" y="4351320"/>
            <a:ext cx="759636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Biotina:</a:t>
            </a:r>
            <a:r>
              <a:rPr b="1" lang="es-ES_tradnl" sz="2000" spc="-1" strike="noStrike">
                <a:solidFill>
                  <a:srgbClr val="ffff00"/>
                </a:solidFill>
                <a:latin typeface="Arial"/>
                <a:ea typeface="Arial"/>
              </a:rPr>
              <a:t> Grupo prostético de l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00"/>
                </a:solidFill>
                <a:latin typeface="Arial"/>
                <a:ea typeface="Arial"/>
              </a:rPr>
              <a:t>acetil-CoA Carboxila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1 CuadroTexto"/>
          <p:cNvSpPr/>
          <p:nvPr/>
        </p:nvSpPr>
        <p:spPr>
          <a:xfrm>
            <a:off x="1752840" y="5732640"/>
            <a:ext cx="6328440" cy="3682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  <a:ea typeface="Arial"/>
              </a:rPr>
              <a:t>TAMBIEN TIENE REGULACIÓN HORMONAL Y DIET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ángulo 4"/>
          <p:cNvSpPr/>
          <p:nvPr/>
        </p:nvSpPr>
        <p:spPr>
          <a:xfrm>
            <a:off x="25092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  <a:ea typeface="Arial"/>
              </a:rPr>
              <a:t>REACCION Y REGULACIÓN DE LA </a:t>
            </a:r>
            <a:r>
              <a:rPr b="1" i="1" lang="es-ES" sz="3200" spc="-1" strike="noStrike">
                <a:solidFill>
                  <a:srgbClr val="ffff00"/>
                </a:solidFill>
                <a:latin typeface="Arial"/>
                <a:ea typeface="Arial"/>
              </a:rPr>
              <a:t>ACETIL-CoA CARBOXILASA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Cuadro de texto 5"/>
          <p:cNvSpPr/>
          <p:nvPr/>
        </p:nvSpPr>
        <p:spPr>
          <a:xfrm>
            <a:off x="208080" y="3071880"/>
            <a:ext cx="144756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Acetil-C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Cuadro de texto 6"/>
          <p:cNvSpPr/>
          <p:nvPr/>
        </p:nvSpPr>
        <p:spPr>
          <a:xfrm>
            <a:off x="3203640" y="3284640"/>
            <a:ext cx="1655640" cy="717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3300"/>
                </a:solidFill>
                <a:latin typeface="Arial"/>
                <a:ea typeface="Arial"/>
              </a:rPr>
              <a:t>Acetil-CoA carboxil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Cuadro de texto 7"/>
          <p:cNvSpPr/>
          <p:nvPr/>
        </p:nvSpPr>
        <p:spPr>
          <a:xfrm>
            <a:off x="2340000" y="3068640"/>
            <a:ext cx="838080" cy="405720"/>
          </a:xfrm>
          <a:prstGeom prst="rect">
            <a:avLst/>
          </a:prstGeom>
          <a:solidFill>
            <a:srgbClr val="f9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  <a:ea typeface="Arial"/>
              </a:rPr>
              <a:t>HCO</a:t>
            </a:r>
            <a:r>
              <a:rPr b="1" lang="es-ES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3</a:t>
            </a:r>
            <a:r>
              <a:rPr b="1" lang="es-ES" sz="18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Cuadro de texto 9"/>
          <p:cNvSpPr/>
          <p:nvPr/>
        </p:nvSpPr>
        <p:spPr>
          <a:xfrm>
            <a:off x="6084720" y="4005360"/>
            <a:ext cx="172728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Malonil-C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Cuadro de texto 10"/>
          <p:cNvSpPr/>
          <p:nvPr/>
        </p:nvSpPr>
        <p:spPr>
          <a:xfrm>
            <a:off x="324000" y="2852640"/>
            <a:ext cx="194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Imagen 11"/>
          <p:cNvSpPr/>
          <p:nvPr/>
        </p:nvSpPr>
        <p:spPr>
          <a:xfrm>
            <a:off x="250920" y="2565360"/>
            <a:ext cx="20113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Línea 12"/>
          <p:cNvSpPr/>
          <p:nvPr/>
        </p:nvSpPr>
        <p:spPr>
          <a:xfrm>
            <a:off x="3276720" y="3284640"/>
            <a:ext cx="194616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Cuadro de texto 13"/>
          <p:cNvSpPr/>
          <p:nvPr/>
        </p:nvSpPr>
        <p:spPr>
          <a:xfrm>
            <a:off x="3276720" y="278136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ATP      ADP + Pi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Autoforma 14"/>
          <p:cNvSpPr/>
          <p:nvPr/>
        </p:nvSpPr>
        <p:spPr>
          <a:xfrm>
            <a:off x="3708360" y="3068640"/>
            <a:ext cx="792360" cy="216000"/>
          </a:xfrm>
          <a:custGeom>
            <a:avLst/>
            <a:gdLst>
              <a:gd name="textAreaLeft" fmla="*/ 138600 w 792360"/>
              <a:gd name="textAreaRight" fmla="*/ 574560 w 79236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Cuadro de texto 16"/>
          <p:cNvSpPr/>
          <p:nvPr/>
        </p:nvSpPr>
        <p:spPr>
          <a:xfrm>
            <a:off x="1692360" y="306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9" name="Grupo 20"/>
          <p:cNvGrpSpPr/>
          <p:nvPr/>
        </p:nvGrpSpPr>
        <p:grpSpPr>
          <a:xfrm>
            <a:off x="5292720" y="2276640"/>
            <a:ext cx="3959280" cy="1617480"/>
            <a:chOff x="5292720" y="2276640"/>
            <a:chExt cx="3959280" cy="1617480"/>
          </a:xfrm>
        </p:grpSpPr>
        <p:pic>
          <p:nvPicPr>
            <p:cNvPr id="900" name="Imagen 17" descr="MALONCOA"/>
            <p:cNvPicPr/>
            <p:nvPr/>
          </p:nvPicPr>
          <p:blipFill>
            <a:blip r:embed="rId1"/>
            <a:srcRect l="0" t="0" r="17937" b="18488"/>
            <a:stretch/>
          </p:blipFill>
          <p:spPr>
            <a:xfrm>
              <a:off x="5292720" y="2276640"/>
              <a:ext cx="3166920" cy="16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1" name="Cuadro de texto 19"/>
            <p:cNvSpPr/>
            <p:nvPr/>
          </p:nvSpPr>
          <p:spPr>
            <a:xfrm>
              <a:off x="8459640" y="292428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+ H+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2" name="Cuadro de texto 22"/>
          <p:cNvSpPr/>
          <p:nvPr/>
        </p:nvSpPr>
        <p:spPr>
          <a:xfrm>
            <a:off x="5219640" y="2349360"/>
            <a:ext cx="1368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Cuadro de texto 24"/>
          <p:cNvSpPr/>
          <p:nvPr/>
        </p:nvSpPr>
        <p:spPr>
          <a:xfrm>
            <a:off x="826920" y="5157720"/>
            <a:ext cx="1656000" cy="717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3300"/>
                </a:solidFill>
                <a:latin typeface="Arial"/>
                <a:ea typeface="Arial"/>
              </a:rPr>
              <a:t>Acetil-CoA carboxil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Autoforma 25"/>
          <p:cNvSpPr/>
          <p:nvPr/>
        </p:nvSpPr>
        <p:spPr>
          <a:xfrm>
            <a:off x="2843280" y="4581360"/>
            <a:ext cx="504720" cy="1872000"/>
          </a:xfrm>
          <a:custGeom>
            <a:avLst/>
            <a:gdLst>
              <a:gd name="textAreaLeft" fmla="*/ 322560 w 504720"/>
              <a:gd name="textAreaRight" fmla="*/ 505080 w 504720"/>
              <a:gd name="textAreaTop" fmla="*/ 48600 h 1872000"/>
              <a:gd name="textAreaBottom" fmla="*/ 1823400 h 18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Cuadro de texto 26"/>
          <p:cNvSpPr/>
          <p:nvPr/>
        </p:nvSpPr>
        <p:spPr>
          <a:xfrm rot="20057400">
            <a:off x="4354200" y="3860640"/>
            <a:ext cx="1079640" cy="368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Arial"/>
                <a:ea typeface="Arial"/>
              </a:rPr>
              <a:t>biot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Cuadro de texto 27"/>
          <p:cNvSpPr/>
          <p:nvPr/>
        </p:nvSpPr>
        <p:spPr>
          <a:xfrm>
            <a:off x="3203640" y="5084640"/>
            <a:ext cx="1224000" cy="3682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Díme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Cuadro de texto 28"/>
          <p:cNvSpPr/>
          <p:nvPr/>
        </p:nvSpPr>
        <p:spPr>
          <a:xfrm>
            <a:off x="6732720" y="5013360"/>
            <a:ext cx="2087280" cy="642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Forma filamento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Línea 29"/>
          <p:cNvSpPr/>
          <p:nvPr/>
        </p:nvSpPr>
        <p:spPr>
          <a:xfrm>
            <a:off x="4932360" y="5229360"/>
            <a:ext cx="12240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Elipse 30"/>
          <p:cNvSpPr/>
          <p:nvPr/>
        </p:nvSpPr>
        <p:spPr>
          <a:xfrm>
            <a:off x="4896000" y="4653000"/>
            <a:ext cx="1188720" cy="576360"/>
          </a:xfrm>
          <a:prstGeom prst="ellipse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Arial"/>
              </a:rPr>
              <a:t>Citrato (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Elipse 31"/>
          <p:cNvSpPr/>
          <p:nvPr/>
        </p:nvSpPr>
        <p:spPr>
          <a:xfrm>
            <a:off x="3348000" y="5516640"/>
            <a:ext cx="1224000" cy="576360"/>
          </a:xfrm>
          <a:prstGeom prst="ellipse">
            <a:avLst/>
          </a:prstGeom>
          <a:solidFill>
            <a:srgbClr val="f6fa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  <a:ea typeface="Arial"/>
              </a:rPr>
              <a:t>Inac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Elipse 32"/>
          <p:cNvSpPr/>
          <p:nvPr/>
        </p:nvSpPr>
        <p:spPr>
          <a:xfrm>
            <a:off x="7308720" y="5661000"/>
            <a:ext cx="1224000" cy="576360"/>
          </a:xfrm>
          <a:prstGeom prst="ellipse">
            <a:avLst/>
          </a:prstGeom>
          <a:solidFill>
            <a:srgbClr val="f6fa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  <a:ea typeface="Arial"/>
              </a:rPr>
              <a:t>Ac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Línea 33"/>
          <p:cNvSpPr/>
          <p:nvPr/>
        </p:nvSpPr>
        <p:spPr>
          <a:xfrm flipH="1">
            <a:off x="5003280" y="5445000"/>
            <a:ext cx="108108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Elipse 34"/>
          <p:cNvSpPr/>
          <p:nvPr/>
        </p:nvSpPr>
        <p:spPr>
          <a:xfrm>
            <a:off x="4859280" y="5516640"/>
            <a:ext cx="1871640" cy="792000"/>
          </a:xfrm>
          <a:prstGeom prst="ellipse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  <a:ea typeface="Arial"/>
              </a:rPr>
              <a:t>AG de caden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  <a:ea typeface="Arial"/>
              </a:rPr>
              <a:t>Larga (-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4162-5161-4811-9A3A-BFD2B92C8FAF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72600" y="17892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ff00"/>
                </a:solidFill>
                <a:latin typeface="Arial Narrow"/>
              </a:rPr>
              <a:t>2) Reacciones de la acido graso sintasa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1476360" y="1412640"/>
            <a:ext cx="7439040" cy="497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taliza la síntesis de AG de hasta 16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Formada por 2 subunidades idénticas con orientación opuesta, cada una con 3 domini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Dominio 1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ingreso de sustratos y unidad de condensación. Contiene 3 enzim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ff00"/>
                </a:solidFill>
                <a:latin typeface="Arial"/>
              </a:rPr>
              <a:t>Acetil transferasa (A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Malonil transferasa (M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ffff"/>
                </a:solidFill>
                <a:latin typeface="Arial"/>
              </a:rPr>
              <a:t>Enzima condensante (KS) o Cetoacil sintasa con resto de Cisteí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Dominio 2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unidad de reducción. Contiene 3 enzim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33"/>
                </a:solidFill>
                <a:latin typeface="Arial"/>
              </a:rPr>
              <a:t>Cetoacil reductasa (K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idroxiacil deshidratasa (H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Enoil reductasa (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see la proteína transportadora de acilos AC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Dominio 3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liberación de AG. Posee la enzim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33"/>
                </a:solidFill>
                <a:latin typeface="Arial"/>
              </a:rPr>
              <a:t>Tioesterasa o Deacilas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7" name="Picture 16" descr=""/>
          <p:cNvPicPr/>
          <p:nvPr/>
        </p:nvPicPr>
        <p:blipFill>
          <a:blip r:embed="rId1"/>
          <a:srcRect l="27852" t="0" r="4160" b="59988"/>
          <a:stretch/>
        </p:blipFill>
        <p:spPr>
          <a:xfrm>
            <a:off x="154080" y="3130560"/>
            <a:ext cx="2300040" cy="2162160"/>
          </a:xfrm>
          <a:prstGeom prst="rect">
            <a:avLst/>
          </a:prstGeom>
          <a:ln w="0">
            <a:noFill/>
          </a:ln>
        </p:spPr>
      </p:pic>
      <p:sp>
        <p:nvSpPr>
          <p:cNvPr id="918" name="6 CuadroTexto"/>
          <p:cNvSpPr/>
          <p:nvPr/>
        </p:nvSpPr>
        <p:spPr>
          <a:xfrm>
            <a:off x="191160" y="5327640"/>
            <a:ext cx="200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Una subunidad de Acido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Graso Sintetas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Forma libre 137"/>
          <p:cNvSpPr/>
          <p:nvPr/>
        </p:nvSpPr>
        <p:spPr>
          <a:xfrm>
            <a:off x="4525920" y="4741920"/>
            <a:ext cx="4187880" cy="1631880"/>
          </a:xfrm>
          <a:custGeom>
            <a:avLst/>
            <a:gdLst/>
            <a:ahLst/>
            <a:rect l="l" t="t" r="r" b="b"/>
            <a:pathLst>
              <a:path w="2638" h="1028">
                <a:moveTo>
                  <a:pt x="269" y="469"/>
                </a:moveTo>
                <a:cubicBezTo>
                  <a:pt x="197" y="525"/>
                  <a:pt x="0" y="667"/>
                  <a:pt x="29" y="757"/>
                </a:cubicBezTo>
                <a:cubicBezTo>
                  <a:pt x="58" y="847"/>
                  <a:pt x="278" y="996"/>
                  <a:pt x="446" y="1012"/>
                </a:cubicBezTo>
                <a:cubicBezTo>
                  <a:pt x="614" y="1028"/>
                  <a:pt x="934" y="909"/>
                  <a:pt x="1037" y="853"/>
                </a:cubicBezTo>
                <a:cubicBezTo>
                  <a:pt x="1140" y="797"/>
                  <a:pt x="1000" y="686"/>
                  <a:pt x="1064" y="678"/>
                </a:cubicBezTo>
                <a:cubicBezTo>
                  <a:pt x="1128" y="670"/>
                  <a:pt x="1269" y="804"/>
                  <a:pt x="1421" y="805"/>
                </a:cubicBezTo>
                <a:cubicBezTo>
                  <a:pt x="1573" y="806"/>
                  <a:pt x="1894" y="750"/>
                  <a:pt x="1974" y="686"/>
                </a:cubicBezTo>
                <a:cubicBezTo>
                  <a:pt x="2054" y="622"/>
                  <a:pt x="1809" y="457"/>
                  <a:pt x="1901" y="421"/>
                </a:cubicBezTo>
                <a:cubicBezTo>
                  <a:pt x="1993" y="385"/>
                  <a:pt x="2421" y="528"/>
                  <a:pt x="2525" y="469"/>
                </a:cubicBezTo>
                <a:cubicBezTo>
                  <a:pt x="2629" y="410"/>
                  <a:pt x="2638" y="136"/>
                  <a:pt x="2525" y="68"/>
                </a:cubicBezTo>
                <a:cubicBezTo>
                  <a:pt x="2412" y="0"/>
                  <a:pt x="1969" y="9"/>
                  <a:pt x="1849" y="60"/>
                </a:cubicBezTo>
                <a:cubicBezTo>
                  <a:pt x="1729" y="111"/>
                  <a:pt x="1852" y="329"/>
                  <a:pt x="1805" y="373"/>
                </a:cubicBezTo>
                <a:cubicBezTo>
                  <a:pt x="1758" y="417"/>
                  <a:pt x="1669" y="333"/>
                  <a:pt x="1565" y="325"/>
                </a:cubicBezTo>
                <a:cubicBezTo>
                  <a:pt x="1461" y="317"/>
                  <a:pt x="1276" y="287"/>
                  <a:pt x="1181" y="325"/>
                </a:cubicBezTo>
                <a:cubicBezTo>
                  <a:pt x="1086" y="363"/>
                  <a:pt x="1061" y="531"/>
                  <a:pt x="997" y="552"/>
                </a:cubicBezTo>
                <a:cubicBezTo>
                  <a:pt x="933" y="573"/>
                  <a:pt x="886" y="474"/>
                  <a:pt x="797" y="452"/>
                </a:cubicBezTo>
                <a:cubicBezTo>
                  <a:pt x="708" y="430"/>
                  <a:pt x="549" y="418"/>
                  <a:pt x="461" y="421"/>
                </a:cubicBezTo>
                <a:cubicBezTo>
                  <a:pt x="373" y="424"/>
                  <a:pt x="341" y="413"/>
                  <a:pt x="269" y="469"/>
                </a:cubicBezTo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Forma libre 136"/>
          <p:cNvSpPr/>
          <p:nvPr/>
        </p:nvSpPr>
        <p:spPr>
          <a:xfrm>
            <a:off x="-11160" y="4925880"/>
            <a:ext cx="4233960" cy="1703520"/>
          </a:xfrm>
          <a:custGeom>
            <a:avLst/>
            <a:gdLst/>
            <a:ahLst/>
            <a:rect l="l" t="t" r="r" b="b"/>
            <a:pathLst>
              <a:path w="2667" h="1073">
                <a:moveTo>
                  <a:pt x="274" y="161"/>
                </a:moveTo>
                <a:cubicBezTo>
                  <a:pt x="199" y="221"/>
                  <a:pt x="48" y="318"/>
                  <a:pt x="24" y="445"/>
                </a:cubicBezTo>
                <a:cubicBezTo>
                  <a:pt x="0" y="572"/>
                  <a:pt x="54" y="936"/>
                  <a:pt x="132" y="921"/>
                </a:cubicBezTo>
                <a:cubicBezTo>
                  <a:pt x="210" y="906"/>
                  <a:pt x="410" y="354"/>
                  <a:pt x="491" y="353"/>
                </a:cubicBezTo>
                <a:cubicBezTo>
                  <a:pt x="572" y="352"/>
                  <a:pt x="489" y="797"/>
                  <a:pt x="619" y="914"/>
                </a:cubicBezTo>
                <a:cubicBezTo>
                  <a:pt x="749" y="1031"/>
                  <a:pt x="1148" y="1070"/>
                  <a:pt x="1268" y="1054"/>
                </a:cubicBezTo>
                <a:cubicBezTo>
                  <a:pt x="1388" y="1038"/>
                  <a:pt x="1299" y="819"/>
                  <a:pt x="1339" y="818"/>
                </a:cubicBezTo>
                <a:cubicBezTo>
                  <a:pt x="1379" y="817"/>
                  <a:pt x="1372" y="1023"/>
                  <a:pt x="1506" y="1048"/>
                </a:cubicBezTo>
                <a:cubicBezTo>
                  <a:pt x="1640" y="1073"/>
                  <a:pt x="2068" y="1025"/>
                  <a:pt x="2144" y="971"/>
                </a:cubicBezTo>
                <a:cubicBezTo>
                  <a:pt x="2220" y="917"/>
                  <a:pt x="1894" y="750"/>
                  <a:pt x="1963" y="722"/>
                </a:cubicBezTo>
                <a:cubicBezTo>
                  <a:pt x="2032" y="694"/>
                  <a:pt x="2455" y="828"/>
                  <a:pt x="2561" y="804"/>
                </a:cubicBezTo>
                <a:cubicBezTo>
                  <a:pt x="2667" y="780"/>
                  <a:pt x="2644" y="650"/>
                  <a:pt x="2600" y="580"/>
                </a:cubicBezTo>
                <a:cubicBezTo>
                  <a:pt x="2556" y="510"/>
                  <a:pt x="2404" y="408"/>
                  <a:pt x="2299" y="386"/>
                </a:cubicBezTo>
                <a:cubicBezTo>
                  <a:pt x="2194" y="364"/>
                  <a:pt x="2055" y="413"/>
                  <a:pt x="1969" y="445"/>
                </a:cubicBezTo>
                <a:cubicBezTo>
                  <a:pt x="1883" y="477"/>
                  <a:pt x="1887" y="531"/>
                  <a:pt x="1785" y="578"/>
                </a:cubicBezTo>
                <a:cubicBezTo>
                  <a:pt x="1683" y="625"/>
                  <a:pt x="1451" y="731"/>
                  <a:pt x="1359" y="729"/>
                </a:cubicBezTo>
                <a:cubicBezTo>
                  <a:pt x="1267" y="727"/>
                  <a:pt x="1307" y="595"/>
                  <a:pt x="1230" y="563"/>
                </a:cubicBezTo>
                <a:cubicBezTo>
                  <a:pt x="1153" y="531"/>
                  <a:pt x="967" y="552"/>
                  <a:pt x="897" y="538"/>
                </a:cubicBezTo>
                <a:cubicBezTo>
                  <a:pt x="827" y="524"/>
                  <a:pt x="801" y="515"/>
                  <a:pt x="811" y="482"/>
                </a:cubicBezTo>
                <a:cubicBezTo>
                  <a:pt x="821" y="449"/>
                  <a:pt x="939" y="402"/>
                  <a:pt x="955" y="338"/>
                </a:cubicBezTo>
                <a:cubicBezTo>
                  <a:pt x="971" y="274"/>
                  <a:pt x="963" y="154"/>
                  <a:pt x="907" y="98"/>
                </a:cubicBezTo>
                <a:cubicBezTo>
                  <a:pt x="851" y="42"/>
                  <a:pt x="691" y="4"/>
                  <a:pt x="619" y="2"/>
                </a:cubicBezTo>
                <a:cubicBezTo>
                  <a:pt x="547" y="0"/>
                  <a:pt x="531" y="60"/>
                  <a:pt x="474" y="86"/>
                </a:cubicBezTo>
                <a:cubicBezTo>
                  <a:pt x="417" y="112"/>
                  <a:pt x="316" y="146"/>
                  <a:pt x="274" y="161"/>
                </a:cubicBezTo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Cuadro de texto 115"/>
          <p:cNvSpPr/>
          <p:nvPr/>
        </p:nvSpPr>
        <p:spPr>
          <a:xfrm>
            <a:off x="762120" y="312408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Cisteí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Elipse 44"/>
          <p:cNvSpPr/>
          <p:nvPr/>
        </p:nvSpPr>
        <p:spPr>
          <a:xfrm>
            <a:off x="3352680" y="2514600"/>
            <a:ext cx="2210040" cy="600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ubunidad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Cuadro de texto 75"/>
          <p:cNvSpPr/>
          <p:nvPr/>
        </p:nvSpPr>
        <p:spPr>
          <a:xfrm>
            <a:off x="7315200" y="28195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4´Fosfo  panteteí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Forma libre 117"/>
          <p:cNvSpPr/>
          <p:nvPr/>
        </p:nvSpPr>
        <p:spPr>
          <a:xfrm>
            <a:off x="4325760" y="1244520"/>
            <a:ext cx="4818240" cy="1766880"/>
          </a:xfrm>
          <a:custGeom>
            <a:avLst/>
            <a:gdLst/>
            <a:ahLst/>
            <a:rect l="l" t="t" r="r" b="b"/>
            <a:pathLst>
              <a:path w="3035" h="1113">
                <a:moveTo>
                  <a:pt x="97" y="51"/>
                </a:moveTo>
                <a:cubicBezTo>
                  <a:pt x="0" y="102"/>
                  <a:pt x="0" y="304"/>
                  <a:pt x="72" y="368"/>
                </a:cubicBezTo>
                <a:cubicBezTo>
                  <a:pt x="144" y="432"/>
                  <a:pt x="429" y="379"/>
                  <a:pt x="531" y="435"/>
                </a:cubicBezTo>
                <a:cubicBezTo>
                  <a:pt x="633" y="491"/>
                  <a:pt x="575" y="653"/>
                  <a:pt x="681" y="702"/>
                </a:cubicBezTo>
                <a:cubicBezTo>
                  <a:pt x="787" y="751"/>
                  <a:pt x="1089" y="668"/>
                  <a:pt x="1165" y="727"/>
                </a:cubicBezTo>
                <a:cubicBezTo>
                  <a:pt x="1241" y="786"/>
                  <a:pt x="1020" y="993"/>
                  <a:pt x="1140" y="1053"/>
                </a:cubicBezTo>
                <a:cubicBezTo>
                  <a:pt x="1260" y="1113"/>
                  <a:pt x="1744" y="1105"/>
                  <a:pt x="1883" y="1088"/>
                </a:cubicBezTo>
                <a:cubicBezTo>
                  <a:pt x="2022" y="1071"/>
                  <a:pt x="1887" y="968"/>
                  <a:pt x="1975" y="952"/>
                </a:cubicBezTo>
                <a:cubicBezTo>
                  <a:pt x="2063" y="936"/>
                  <a:pt x="2332" y="1002"/>
                  <a:pt x="2411" y="992"/>
                </a:cubicBezTo>
                <a:cubicBezTo>
                  <a:pt x="2490" y="982"/>
                  <a:pt x="2446" y="923"/>
                  <a:pt x="2451" y="894"/>
                </a:cubicBezTo>
                <a:cubicBezTo>
                  <a:pt x="2456" y="865"/>
                  <a:pt x="2385" y="835"/>
                  <a:pt x="2442" y="819"/>
                </a:cubicBezTo>
                <a:cubicBezTo>
                  <a:pt x="2499" y="803"/>
                  <a:pt x="2699" y="821"/>
                  <a:pt x="2795" y="800"/>
                </a:cubicBezTo>
                <a:cubicBezTo>
                  <a:pt x="2891" y="779"/>
                  <a:pt x="3035" y="751"/>
                  <a:pt x="3018" y="694"/>
                </a:cubicBezTo>
                <a:cubicBezTo>
                  <a:pt x="3001" y="637"/>
                  <a:pt x="2769" y="505"/>
                  <a:pt x="2693" y="460"/>
                </a:cubicBezTo>
                <a:cubicBezTo>
                  <a:pt x="2617" y="415"/>
                  <a:pt x="2616" y="429"/>
                  <a:pt x="2559" y="426"/>
                </a:cubicBezTo>
                <a:cubicBezTo>
                  <a:pt x="2502" y="423"/>
                  <a:pt x="2407" y="417"/>
                  <a:pt x="2350" y="443"/>
                </a:cubicBezTo>
                <a:cubicBezTo>
                  <a:pt x="2293" y="469"/>
                  <a:pt x="2242" y="541"/>
                  <a:pt x="2217" y="585"/>
                </a:cubicBezTo>
                <a:cubicBezTo>
                  <a:pt x="2192" y="629"/>
                  <a:pt x="2242" y="670"/>
                  <a:pt x="2200" y="710"/>
                </a:cubicBezTo>
                <a:cubicBezTo>
                  <a:pt x="2158" y="750"/>
                  <a:pt x="2034" y="820"/>
                  <a:pt x="1966" y="827"/>
                </a:cubicBezTo>
                <a:cubicBezTo>
                  <a:pt x="1898" y="834"/>
                  <a:pt x="1859" y="773"/>
                  <a:pt x="1791" y="752"/>
                </a:cubicBezTo>
                <a:cubicBezTo>
                  <a:pt x="1723" y="731"/>
                  <a:pt x="1614" y="726"/>
                  <a:pt x="1557" y="702"/>
                </a:cubicBezTo>
                <a:cubicBezTo>
                  <a:pt x="1500" y="678"/>
                  <a:pt x="1487" y="661"/>
                  <a:pt x="1451" y="608"/>
                </a:cubicBezTo>
                <a:cubicBezTo>
                  <a:pt x="1415" y="555"/>
                  <a:pt x="1403" y="436"/>
                  <a:pt x="1340" y="385"/>
                </a:cubicBezTo>
                <a:cubicBezTo>
                  <a:pt x="1277" y="334"/>
                  <a:pt x="1158" y="320"/>
                  <a:pt x="1073" y="301"/>
                </a:cubicBezTo>
                <a:cubicBezTo>
                  <a:pt x="988" y="282"/>
                  <a:pt x="897" y="312"/>
                  <a:pt x="827" y="272"/>
                </a:cubicBezTo>
                <a:cubicBezTo>
                  <a:pt x="757" y="232"/>
                  <a:pt x="778" y="96"/>
                  <a:pt x="656" y="59"/>
                </a:cubicBezTo>
                <a:cubicBezTo>
                  <a:pt x="534" y="22"/>
                  <a:pt x="194" y="0"/>
                  <a:pt x="97" y="51"/>
                </a:cubicBezTo>
                <a:close/>
              </a:path>
            </a:pathLst>
          </a:custGeom>
          <a:solidFill>
            <a:srgbClr val="ccff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Forma libre 58"/>
          <p:cNvSpPr/>
          <p:nvPr/>
        </p:nvSpPr>
        <p:spPr>
          <a:xfrm>
            <a:off x="585720" y="1424160"/>
            <a:ext cx="3611520" cy="1671480"/>
          </a:xfrm>
          <a:custGeom>
            <a:avLst/>
            <a:gdLst/>
            <a:ahLst/>
            <a:rect l="l" t="t" r="r" b="b"/>
            <a:pathLst>
              <a:path w="2275" h="1053">
                <a:moveTo>
                  <a:pt x="104" y="989"/>
                </a:moveTo>
                <a:cubicBezTo>
                  <a:pt x="208" y="1053"/>
                  <a:pt x="575" y="999"/>
                  <a:pt x="680" y="941"/>
                </a:cubicBezTo>
                <a:cubicBezTo>
                  <a:pt x="785" y="883"/>
                  <a:pt x="731" y="707"/>
                  <a:pt x="735" y="639"/>
                </a:cubicBezTo>
                <a:cubicBezTo>
                  <a:pt x="739" y="571"/>
                  <a:pt x="666" y="549"/>
                  <a:pt x="704" y="531"/>
                </a:cubicBezTo>
                <a:cubicBezTo>
                  <a:pt x="742" y="513"/>
                  <a:pt x="852" y="545"/>
                  <a:pt x="964" y="531"/>
                </a:cubicBezTo>
                <a:cubicBezTo>
                  <a:pt x="1076" y="517"/>
                  <a:pt x="1292" y="448"/>
                  <a:pt x="1375" y="444"/>
                </a:cubicBezTo>
                <a:cubicBezTo>
                  <a:pt x="1458" y="440"/>
                  <a:pt x="1448" y="497"/>
                  <a:pt x="1462" y="507"/>
                </a:cubicBezTo>
                <a:cubicBezTo>
                  <a:pt x="1476" y="517"/>
                  <a:pt x="1442" y="506"/>
                  <a:pt x="1462" y="507"/>
                </a:cubicBezTo>
                <a:cubicBezTo>
                  <a:pt x="1482" y="508"/>
                  <a:pt x="1461" y="509"/>
                  <a:pt x="1580" y="515"/>
                </a:cubicBezTo>
                <a:cubicBezTo>
                  <a:pt x="1699" y="521"/>
                  <a:pt x="2075" y="607"/>
                  <a:pt x="2175" y="543"/>
                </a:cubicBezTo>
                <a:cubicBezTo>
                  <a:pt x="2275" y="479"/>
                  <a:pt x="2238" y="206"/>
                  <a:pt x="2180" y="129"/>
                </a:cubicBezTo>
                <a:cubicBezTo>
                  <a:pt x="2122" y="52"/>
                  <a:pt x="1938" y="71"/>
                  <a:pt x="1825" y="81"/>
                </a:cubicBezTo>
                <a:cubicBezTo>
                  <a:pt x="1712" y="91"/>
                  <a:pt x="1584" y="189"/>
                  <a:pt x="1501" y="192"/>
                </a:cubicBezTo>
                <a:cubicBezTo>
                  <a:pt x="1418" y="195"/>
                  <a:pt x="1481" y="119"/>
                  <a:pt x="1327" y="97"/>
                </a:cubicBezTo>
                <a:cubicBezTo>
                  <a:pt x="1173" y="75"/>
                  <a:pt x="725" y="0"/>
                  <a:pt x="578" y="58"/>
                </a:cubicBezTo>
                <a:cubicBezTo>
                  <a:pt x="431" y="116"/>
                  <a:pt x="534" y="364"/>
                  <a:pt x="447" y="447"/>
                </a:cubicBezTo>
                <a:cubicBezTo>
                  <a:pt x="360" y="530"/>
                  <a:pt x="114" y="465"/>
                  <a:pt x="57" y="555"/>
                </a:cubicBezTo>
                <a:cubicBezTo>
                  <a:pt x="0" y="645"/>
                  <a:pt x="0" y="925"/>
                  <a:pt x="104" y="989"/>
                </a:cubicBezTo>
                <a:close/>
              </a:path>
            </a:pathLst>
          </a:custGeom>
          <a:solidFill>
            <a:srgbClr val="ccff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Elipse 55"/>
          <p:cNvSpPr/>
          <p:nvPr/>
        </p:nvSpPr>
        <p:spPr>
          <a:xfrm>
            <a:off x="3344760" y="4808520"/>
            <a:ext cx="2451240" cy="601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ubunidad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Cuadro de texto 54"/>
          <p:cNvSpPr/>
          <p:nvPr/>
        </p:nvSpPr>
        <p:spPr>
          <a:xfrm>
            <a:off x="609480" y="3886200"/>
            <a:ext cx="7925040" cy="150840"/>
          </a:xfrm>
          <a:prstGeom prst="rect">
            <a:avLst/>
          </a:prstGeom>
          <a:solidFill>
            <a:srgbClr val="c0c0c0">
              <a:alpha val="5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Línea 56"/>
          <p:cNvSpPr/>
          <p:nvPr/>
        </p:nvSpPr>
        <p:spPr>
          <a:xfrm>
            <a:off x="4226040" y="1492200"/>
            <a:ext cx="0" cy="4702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343080" y="260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 Narrow"/>
              </a:rPr>
              <a:t>Esquema Complejo ácido graso sintasa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30" name="Cuadro de texto 62"/>
          <p:cNvSpPr/>
          <p:nvPr/>
        </p:nvSpPr>
        <p:spPr>
          <a:xfrm>
            <a:off x="7620120" y="26668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Cuadro de texto 63"/>
          <p:cNvSpPr/>
          <p:nvPr/>
        </p:nvSpPr>
        <p:spPr>
          <a:xfrm>
            <a:off x="1066680" y="2895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Cuadro de texto 64"/>
          <p:cNvSpPr/>
          <p:nvPr/>
        </p:nvSpPr>
        <p:spPr>
          <a:xfrm>
            <a:off x="8305920" y="2133720"/>
            <a:ext cx="1143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Cuadro de texto 67"/>
          <p:cNvSpPr/>
          <p:nvPr/>
        </p:nvSpPr>
        <p:spPr>
          <a:xfrm>
            <a:off x="5334120" y="175248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Enoi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reduc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Rectángulo 68"/>
          <p:cNvSpPr/>
          <p:nvPr/>
        </p:nvSpPr>
        <p:spPr>
          <a:xfrm>
            <a:off x="4343400" y="14479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Hidra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Rectángulo 69"/>
          <p:cNvSpPr/>
          <p:nvPr/>
        </p:nvSpPr>
        <p:spPr>
          <a:xfrm>
            <a:off x="1274760" y="160020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cetil Transacilas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Cuadro de texto 70"/>
          <p:cNvSpPr/>
          <p:nvPr/>
        </p:nvSpPr>
        <p:spPr>
          <a:xfrm>
            <a:off x="685800" y="236232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Cetoacil sin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Rectángulo 71"/>
          <p:cNvSpPr/>
          <p:nvPr/>
        </p:nvSpPr>
        <p:spPr>
          <a:xfrm>
            <a:off x="2743200" y="167652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Maloni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Transacilas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Cuadro de texto 72"/>
          <p:cNvSpPr/>
          <p:nvPr/>
        </p:nvSpPr>
        <p:spPr>
          <a:xfrm>
            <a:off x="7505640" y="2416320"/>
            <a:ext cx="68580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C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Cuadro de texto 74"/>
          <p:cNvSpPr/>
          <p:nvPr/>
        </p:nvSpPr>
        <p:spPr>
          <a:xfrm>
            <a:off x="7848720" y="21337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Tioester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Cuadro de texto 109"/>
          <p:cNvSpPr/>
          <p:nvPr/>
        </p:nvSpPr>
        <p:spPr>
          <a:xfrm>
            <a:off x="6172200" y="23623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Cetoacil reduc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Cuadro de texto 111"/>
          <p:cNvSpPr/>
          <p:nvPr/>
        </p:nvSpPr>
        <p:spPr>
          <a:xfrm>
            <a:off x="990720" y="35053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S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Cuadro de texto 113"/>
          <p:cNvSpPr/>
          <p:nvPr/>
        </p:nvSpPr>
        <p:spPr>
          <a:xfrm>
            <a:off x="609480" y="426708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4´Fosfo  panteteí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Cuadro de texto 114"/>
          <p:cNvSpPr/>
          <p:nvPr/>
        </p:nvSpPr>
        <p:spPr>
          <a:xfrm>
            <a:off x="7467480" y="35053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S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Cuadro de texto 116"/>
          <p:cNvSpPr/>
          <p:nvPr/>
        </p:nvSpPr>
        <p:spPr>
          <a:xfrm>
            <a:off x="1066680" y="32767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Cuadro de texto 118"/>
          <p:cNvSpPr/>
          <p:nvPr/>
        </p:nvSpPr>
        <p:spPr>
          <a:xfrm>
            <a:off x="7620120" y="32767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Cuadro de texto 119"/>
          <p:cNvSpPr/>
          <p:nvPr/>
        </p:nvSpPr>
        <p:spPr>
          <a:xfrm>
            <a:off x="990720" y="41148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Cuadro de texto 120"/>
          <p:cNvSpPr/>
          <p:nvPr/>
        </p:nvSpPr>
        <p:spPr>
          <a:xfrm>
            <a:off x="914400" y="39625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S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Cuadro de texto 121"/>
          <p:cNvSpPr/>
          <p:nvPr/>
        </p:nvSpPr>
        <p:spPr>
          <a:xfrm>
            <a:off x="2286000" y="59436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Enoi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reduc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Cuadro de texto 122"/>
          <p:cNvSpPr/>
          <p:nvPr/>
        </p:nvSpPr>
        <p:spPr>
          <a:xfrm>
            <a:off x="1066680" y="59436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Cetoacil reduc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Cuadro de texto 125"/>
          <p:cNvSpPr/>
          <p:nvPr/>
        </p:nvSpPr>
        <p:spPr>
          <a:xfrm>
            <a:off x="7543800" y="487692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Cetoacil sin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Rectángulo 126"/>
          <p:cNvSpPr/>
          <p:nvPr/>
        </p:nvSpPr>
        <p:spPr>
          <a:xfrm>
            <a:off x="6172200" y="525780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cetil Transacilas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Rectángulo 127"/>
          <p:cNvSpPr/>
          <p:nvPr/>
        </p:nvSpPr>
        <p:spPr>
          <a:xfrm>
            <a:off x="4648320" y="556272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Maloni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Transacilas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Cuadro de texto 128"/>
          <p:cNvSpPr/>
          <p:nvPr/>
        </p:nvSpPr>
        <p:spPr>
          <a:xfrm>
            <a:off x="914400" y="50292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C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Cuadro de texto 129"/>
          <p:cNvSpPr/>
          <p:nvPr/>
        </p:nvSpPr>
        <p:spPr>
          <a:xfrm rot="17535000">
            <a:off x="-288720" y="546984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Tioester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Cuadro de texto 130"/>
          <p:cNvSpPr/>
          <p:nvPr/>
        </p:nvSpPr>
        <p:spPr>
          <a:xfrm>
            <a:off x="7696080" y="41911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Rectángulo 131"/>
          <p:cNvSpPr/>
          <p:nvPr/>
        </p:nvSpPr>
        <p:spPr>
          <a:xfrm>
            <a:off x="3124080" y="5791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Hidra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Cuadro de texto 132"/>
          <p:cNvSpPr/>
          <p:nvPr/>
        </p:nvSpPr>
        <p:spPr>
          <a:xfrm>
            <a:off x="990720" y="4724280"/>
            <a:ext cx="3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Cuadro de texto 133"/>
          <p:cNvSpPr/>
          <p:nvPr/>
        </p:nvSpPr>
        <p:spPr>
          <a:xfrm>
            <a:off x="7620120" y="441972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Cisteí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Cuadro de texto 134"/>
          <p:cNvSpPr/>
          <p:nvPr/>
        </p:nvSpPr>
        <p:spPr>
          <a:xfrm>
            <a:off x="7543800" y="39625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S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Cuadro de texto 135"/>
          <p:cNvSpPr/>
          <p:nvPr/>
        </p:nvSpPr>
        <p:spPr>
          <a:xfrm>
            <a:off x="7772400" y="46483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Forma libre 138"/>
          <p:cNvSpPr/>
          <p:nvPr/>
        </p:nvSpPr>
        <p:spPr>
          <a:xfrm>
            <a:off x="4191120" y="5943600"/>
            <a:ext cx="380880" cy="76320"/>
          </a:xfrm>
          <a:custGeom>
            <a:avLst/>
            <a:gdLst/>
            <a:ahLst/>
            <a:rect l="l" t="t" r="r" b="b"/>
            <a:pathLst>
              <a:path w="240" h="48">
                <a:moveTo>
                  <a:pt x="0" y="0"/>
                </a:moveTo>
                <a:cubicBezTo>
                  <a:pt x="4" y="24"/>
                  <a:pt x="8" y="48"/>
                  <a:pt x="48" y="48"/>
                </a:cubicBezTo>
                <a:cubicBezTo>
                  <a:pt x="88" y="48"/>
                  <a:pt x="208" y="8"/>
                  <a:pt x="240" y="0"/>
                </a:cubicBez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Forma libre 139"/>
          <p:cNvSpPr/>
          <p:nvPr/>
        </p:nvSpPr>
        <p:spPr>
          <a:xfrm>
            <a:off x="4114800" y="1587600"/>
            <a:ext cx="304920" cy="164880"/>
          </a:xfrm>
          <a:custGeom>
            <a:avLst/>
            <a:gdLst/>
            <a:ahLst/>
            <a:rect l="l" t="t" r="r" b="b"/>
            <a:pathLst>
              <a:path w="192" h="104">
                <a:moveTo>
                  <a:pt x="0" y="104"/>
                </a:moveTo>
                <a:cubicBezTo>
                  <a:pt x="8" y="60"/>
                  <a:pt x="16" y="16"/>
                  <a:pt x="48" y="8"/>
                </a:cubicBezTo>
                <a:cubicBezTo>
                  <a:pt x="80" y="0"/>
                  <a:pt x="168" y="48"/>
                  <a:pt x="192" y="56"/>
                </a:cubicBez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321E-68D5-48E7-BE13-80CD76453E81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09680" y="252000"/>
            <a:ext cx="8447040" cy="93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ff00"/>
                </a:solidFill>
                <a:latin typeface="Arial Narrow"/>
              </a:rPr>
              <a:t>1)Transferencia de acetato.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5" name="Text Box 11"/>
          <p:cNvSpPr/>
          <p:nvPr/>
        </p:nvSpPr>
        <p:spPr>
          <a:xfrm>
            <a:off x="395280" y="1665360"/>
            <a:ext cx="29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Text Box 14"/>
          <p:cNvSpPr/>
          <p:nvPr/>
        </p:nvSpPr>
        <p:spPr>
          <a:xfrm>
            <a:off x="324000" y="2384280"/>
            <a:ext cx="403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Una molécula de acetil-CoA ingresa y la </a:t>
            </a:r>
            <a:r>
              <a:rPr b="0" lang="es-ES" sz="2800" spc="-1" strike="noStrike">
                <a:solidFill>
                  <a:srgbClr val="ff3300"/>
                </a:solidFill>
                <a:latin typeface="Arial Narrow"/>
                <a:ea typeface="Arial"/>
              </a:rPr>
              <a:t>acetil transferasa (AT)</a:t>
            </a:r>
            <a:r>
              <a:rPr b="0" lang="es-E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 transfiere el resto acetilo al sitio activo de la </a:t>
            </a:r>
            <a:r>
              <a:rPr b="0" lang="es-ES" sz="2800" spc="-1" strike="noStrike">
                <a:solidFill>
                  <a:srgbClr val="ffff00"/>
                </a:solidFill>
                <a:latin typeface="Arial Narrow"/>
                <a:ea typeface="Arial"/>
              </a:rPr>
              <a:t>enzima condensante</a:t>
            </a:r>
            <a:r>
              <a:rPr b="0" lang="es-E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s-ES" sz="2800" spc="-1" strike="noStrike">
                <a:solidFill>
                  <a:srgbClr val="ffff00"/>
                </a:solidFill>
                <a:latin typeface="Arial Narrow"/>
                <a:ea typeface="Arial"/>
              </a:rPr>
              <a:t>(K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7" name="Picture 16" descr=""/>
          <p:cNvPicPr/>
          <p:nvPr/>
        </p:nvPicPr>
        <p:blipFill>
          <a:blip r:embed="rId1"/>
          <a:stretch/>
        </p:blipFill>
        <p:spPr>
          <a:xfrm>
            <a:off x="4680000" y="981000"/>
            <a:ext cx="354492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5F83-E207-4ACA-9DD8-4A69296A517B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58560" y="333360"/>
            <a:ext cx="8483400" cy="7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ff00"/>
                </a:solidFill>
                <a:latin typeface="Arial Narrow"/>
              </a:rPr>
              <a:t>2)Transferencia de malonilo.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0" name="Text Box 6"/>
          <p:cNvSpPr/>
          <p:nvPr/>
        </p:nvSpPr>
        <p:spPr>
          <a:xfrm>
            <a:off x="431640" y="1628640"/>
            <a:ext cx="3240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El malonil-CoA formado ingresa y se une al residuo de </a:t>
            </a:r>
            <a:r>
              <a:rPr b="0" lang="es-ES" sz="2800" spc="-1" strike="noStrike">
                <a:solidFill>
                  <a:srgbClr val="00ff00"/>
                </a:solidFill>
                <a:latin typeface="Arial Narrow"/>
                <a:ea typeface="Arial"/>
              </a:rPr>
              <a:t>Fosfopanteteína</a:t>
            </a:r>
            <a:r>
              <a:rPr b="0" lang="es-E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  de la </a:t>
            </a:r>
            <a:r>
              <a:rPr b="0" lang="es-ES" sz="2800" spc="-1" strike="noStrike">
                <a:solidFill>
                  <a:srgbClr val="ffff00"/>
                </a:solidFill>
                <a:latin typeface="Arial Narrow"/>
                <a:ea typeface="Arial"/>
              </a:rPr>
              <a:t>Proteína Transportadora de Acilos (ACP)</a:t>
            </a:r>
            <a:r>
              <a:rPr b="0" lang="es-E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 por acción de la </a:t>
            </a:r>
            <a:r>
              <a:rPr b="0" lang="es-ES" sz="2800" spc="-1" strike="noStrike">
                <a:solidFill>
                  <a:srgbClr val="ff3300"/>
                </a:solidFill>
                <a:latin typeface="Arial Narrow"/>
                <a:ea typeface="Arial"/>
              </a:rPr>
              <a:t>malonil transferasa (MT)</a:t>
            </a:r>
            <a:r>
              <a:rPr b="0" lang="es-E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1" name="Picture 8" descr=""/>
          <p:cNvPicPr/>
          <p:nvPr/>
        </p:nvPicPr>
        <p:blipFill>
          <a:blip r:embed="rId1"/>
          <a:stretch/>
        </p:blipFill>
        <p:spPr>
          <a:xfrm>
            <a:off x="3738600" y="944640"/>
            <a:ext cx="470196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6637-E60A-4425-AA41-AEAE8997F880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-360" y="252000"/>
            <a:ext cx="8916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ff00"/>
                </a:solidFill>
                <a:latin typeface="Arial Narrow"/>
              </a:rPr>
              <a:t>3)Condensación de acetilo con malonilo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4" name="Text Box 6"/>
          <p:cNvSpPr/>
          <p:nvPr/>
        </p:nvSpPr>
        <p:spPr>
          <a:xfrm>
            <a:off x="468360" y="2097000"/>
            <a:ext cx="392112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El carboxilo libre del malonilo se separa como 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Se produce la unión de acetilo y malonilo catalizada por la </a:t>
            </a:r>
            <a:r>
              <a:rPr b="0" lang="es-ES" sz="2400" spc="-1" strike="noStrike">
                <a:solidFill>
                  <a:srgbClr val="ff3300"/>
                </a:solidFill>
                <a:latin typeface="Arial Narrow"/>
                <a:ea typeface="Arial"/>
              </a:rPr>
              <a:t>enzima condensante (KS) </a:t>
            </a:r>
            <a:r>
              <a:rPr b="0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para formar ceto-acil AC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Se libera el acetilo de la enzima condens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5" name="Picture 8" descr=""/>
          <p:cNvPicPr/>
          <p:nvPr/>
        </p:nvPicPr>
        <p:blipFill>
          <a:blip r:embed="rId1"/>
          <a:stretch/>
        </p:blipFill>
        <p:spPr>
          <a:xfrm>
            <a:off x="4716360" y="1268280"/>
            <a:ext cx="381168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7B93-14CB-449A-A87E-B6E13611B538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ff00"/>
                </a:solidFill>
                <a:latin typeface="Arial Narrow"/>
              </a:rPr>
              <a:t>4) Primera reducción (reducción del grupo ceto)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8" name="Text Box 6"/>
          <p:cNvSpPr/>
          <p:nvPr/>
        </p:nvSpPr>
        <p:spPr>
          <a:xfrm>
            <a:off x="468360" y="2529000"/>
            <a:ext cx="244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El ceto-acil ACP formado se reduce a hidroxi-acil ACP por acción de la </a:t>
            </a:r>
            <a:r>
              <a:rPr b="1" lang="es-ES" sz="2400" spc="-1" strike="noStrike">
                <a:solidFill>
                  <a:srgbClr val="ff3300"/>
                </a:solidFill>
                <a:latin typeface="Arial Narrow"/>
                <a:ea typeface="Arial"/>
              </a:rPr>
              <a:t>ceto-acil reductasa (KR)</a:t>
            </a:r>
            <a:r>
              <a:rPr b="1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9" name="Picture 8" descr=""/>
          <p:cNvPicPr/>
          <p:nvPr/>
        </p:nvPicPr>
        <p:blipFill>
          <a:blip r:embed="rId1"/>
          <a:stretch/>
        </p:blipFill>
        <p:spPr>
          <a:xfrm>
            <a:off x="2879640" y="1736640"/>
            <a:ext cx="626436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6096240" cy="11430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Arial Narrow"/>
              </a:rPr>
              <a:t>Funciones de los lípido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425080" cy="4465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omponentes de membra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Fuente de reserva energé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Reguladores Biológ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Pigmentos (retinol, carote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ofactores (vitamina 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Detergentes (ácidos biliar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Transportadores (dolico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Hormonas (derivados de la vitamina D, hormonas sexua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Mensajeros celulares (eicosanoides, derivados de fosfatidil inosito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Ancladores de proteí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E0C9-B8D0-48A9-BDC6-BF0FA7E3372C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942920" y="361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ff00"/>
                </a:solidFill>
                <a:latin typeface="Arial Narrow"/>
              </a:rPr>
              <a:t>5)Deshidratación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2" name="Text Box 6"/>
          <p:cNvSpPr/>
          <p:nvPr/>
        </p:nvSpPr>
        <p:spPr>
          <a:xfrm>
            <a:off x="503280" y="2023920"/>
            <a:ext cx="23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Text Box 7"/>
          <p:cNvSpPr/>
          <p:nvPr/>
        </p:nvSpPr>
        <p:spPr>
          <a:xfrm>
            <a:off x="216000" y="2492280"/>
            <a:ext cx="28796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Se pierde una molécula de agua, reacción catalizada por 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1" lang="es-ES" sz="2400" spc="-1" strike="noStrike">
                <a:solidFill>
                  <a:srgbClr val="ff3300"/>
                </a:solidFill>
                <a:latin typeface="Arial Narrow"/>
                <a:ea typeface="Arial"/>
              </a:rPr>
              <a:t>hidroxi acil deshidratasa (H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4" name="Picture 9" descr=""/>
          <p:cNvPicPr/>
          <p:nvPr/>
        </p:nvPicPr>
        <p:blipFill>
          <a:blip r:embed="rId1"/>
          <a:stretch/>
        </p:blipFill>
        <p:spPr>
          <a:xfrm>
            <a:off x="2808360" y="1704960"/>
            <a:ext cx="615636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28F7-9753-43E4-B60D-A0686019C37A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54080" y="-360"/>
            <a:ext cx="8989920" cy="10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ff00"/>
                </a:solidFill>
                <a:latin typeface="Arial Narrow"/>
              </a:rPr>
              <a:t>6)Segunda reducción</a:t>
            </a:r>
            <a:br>
              <a:rPr sz="3600"/>
            </a:br>
            <a:r>
              <a:rPr b="1" lang="es-ES" sz="2400" spc="-1" strike="noStrike">
                <a:solidFill>
                  <a:srgbClr val="00ff00"/>
                </a:solidFill>
                <a:latin typeface="Arial Narrow"/>
              </a:rPr>
              <a:t>(Saturación del enlace C-C)</a:t>
            </a:r>
            <a:endParaRPr b="1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7" name="Text Box 6"/>
          <p:cNvSpPr/>
          <p:nvPr/>
        </p:nvSpPr>
        <p:spPr>
          <a:xfrm>
            <a:off x="576360" y="3033720"/>
            <a:ext cx="38876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compuesto insaturado es hidrogenado por acción de l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enoil reductasa (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8" name="Picture 8" descr=""/>
          <p:cNvPicPr/>
          <p:nvPr/>
        </p:nvPicPr>
        <p:blipFill>
          <a:blip r:embed="rId1"/>
          <a:stretch/>
        </p:blipFill>
        <p:spPr>
          <a:xfrm>
            <a:off x="5076720" y="762120"/>
            <a:ext cx="32482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463E-234D-48E2-8572-0218F4AB8CE9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3095640" y="225000"/>
            <a:ext cx="577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ff00"/>
                </a:solidFill>
                <a:latin typeface="Arial Narrow"/>
              </a:rPr>
              <a:t>Translocación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91" name="Text Box 7"/>
          <p:cNvSpPr/>
          <p:nvPr/>
        </p:nvSpPr>
        <p:spPr>
          <a:xfrm>
            <a:off x="1440" y="189000"/>
            <a:ext cx="3418200" cy="63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 Narrow"/>
                <a:ea typeface="Arial"/>
              </a:rPr>
              <a:t>La cadena en elongación unida al grupo fosfopanteteína de la ACP es translocada al residuo de cisteína de la enzima condensante (K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 Narrow"/>
                <a:ea typeface="Arial"/>
              </a:rPr>
              <a:t>El grupo fosfopanteteína queda libre para la unión a malonilo comenzando un nuevo cicl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 Narrow"/>
                <a:ea typeface="Arial"/>
              </a:rPr>
              <a:t>El ciclo se repite hasta llegar a AG de 16 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ffcc"/>
                </a:solidFill>
                <a:latin typeface="Arial Narrow"/>
                <a:ea typeface="Arial"/>
              </a:rPr>
              <a:t>Los H necesarios para las reducciones provienen de </a:t>
            </a:r>
            <a:r>
              <a:rPr b="1" lang="es-ES" sz="2000" spc="-1" strike="noStrike" u="sng">
                <a:solidFill>
                  <a:srgbClr val="99ffcc"/>
                </a:solidFill>
                <a:uFillTx/>
                <a:latin typeface="Arial Narrow"/>
                <a:ea typeface="Arial"/>
              </a:rPr>
              <a:t>NADPH que se obtiene en la vía de las pentosas y  en menor cantidad por la enzima málica lanzadera de citra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ffcc"/>
                </a:solidFill>
                <a:latin typeface="Arial Narrow"/>
                <a:ea typeface="Arial"/>
              </a:rPr>
              <a:t>(transporte de acetilos</a:t>
            </a:r>
            <a:r>
              <a:rPr b="1" lang="es-ES" sz="2000" spc="-1" strike="noStrike">
                <a:solidFill>
                  <a:srgbClr val="ffffff"/>
                </a:solidFill>
                <a:latin typeface="Arial Narrow"/>
                <a:ea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2" name="Picture 9" descr=""/>
          <p:cNvPicPr/>
          <p:nvPr/>
        </p:nvPicPr>
        <p:blipFill>
          <a:blip r:embed="rId1"/>
          <a:stretch/>
        </p:blipFill>
        <p:spPr>
          <a:xfrm>
            <a:off x="3348000" y="1665360"/>
            <a:ext cx="5575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B1E6-0C44-43B0-94ED-7967D4307E1A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90080" y="361440"/>
            <a:ext cx="8185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00ff00"/>
                </a:solidFill>
                <a:uFillTx/>
                <a:latin typeface="Arial Narrow"/>
              </a:rPr>
              <a:t>RESUMEN</a:t>
            </a:r>
            <a:r>
              <a:rPr b="1" lang="es-ES" sz="4000" spc="-1" strike="noStrike">
                <a:solidFill>
                  <a:srgbClr val="00ff00"/>
                </a:solidFill>
                <a:latin typeface="Arial Narrow"/>
              </a:rPr>
              <a:t>: </a:t>
            </a:r>
            <a:br>
              <a:rPr sz="4000"/>
            </a:br>
            <a:r>
              <a:rPr b="1" lang="es-ES" sz="4000" spc="-1" strike="noStrike">
                <a:solidFill>
                  <a:srgbClr val="00ff00"/>
                </a:solidFill>
                <a:latin typeface="Arial Narrow"/>
              </a:rPr>
              <a:t>Pasos de la biosíntesis de Ac. Grasos.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995" name="Picture 6" descr=""/>
          <p:cNvPicPr/>
          <p:nvPr/>
        </p:nvPicPr>
        <p:blipFill>
          <a:blip r:embed="rId1"/>
          <a:stretch/>
        </p:blipFill>
        <p:spPr>
          <a:xfrm>
            <a:off x="539640" y="1765440"/>
            <a:ext cx="8375760" cy="4611600"/>
          </a:xfrm>
          <a:prstGeom prst="rect">
            <a:avLst/>
          </a:prstGeom>
          <a:ln w="0">
            <a:noFill/>
          </a:ln>
        </p:spPr>
      </p:pic>
      <p:sp>
        <p:nvSpPr>
          <p:cNvPr id="996" name="1 CuadroTexto"/>
          <p:cNvSpPr/>
          <p:nvPr/>
        </p:nvSpPr>
        <p:spPr>
          <a:xfrm>
            <a:off x="539640" y="5408640"/>
            <a:ext cx="54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7 ciclos de condensación y reducción producen el palmitato saturado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  <a:ea typeface="Arial"/>
              </a:rPr>
              <a:t>,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Actúa la </a:t>
            </a:r>
            <a:r>
              <a:rPr b="1" lang="es-A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ioesterasa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y libera el 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Elipse 19"/>
          <p:cNvSpPr/>
          <p:nvPr/>
        </p:nvSpPr>
        <p:spPr>
          <a:xfrm>
            <a:off x="3124080" y="2743200"/>
            <a:ext cx="1067040" cy="12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000"/>
                </a:solidFill>
                <a:latin typeface="Arial Narrow"/>
              </a:rPr>
              <a:t>Balance de la Biosíntesis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99" name="Cuadro de texto 15"/>
          <p:cNvSpPr/>
          <p:nvPr/>
        </p:nvSpPr>
        <p:spPr>
          <a:xfrm>
            <a:off x="762120" y="32004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8 Acetil-CoA  +  7 ATP  +  14 NADPH   +  14  H</a:t>
            </a:r>
            <a:r>
              <a:rPr b="1" lang="es-E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Cuadro de texto 16"/>
          <p:cNvSpPr/>
          <p:nvPr/>
        </p:nvSpPr>
        <p:spPr>
          <a:xfrm>
            <a:off x="152280" y="4495680"/>
            <a:ext cx="883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almitato +8 CoA-SH +  7 ADP + 7 Pi +  14 NADP</a:t>
            </a:r>
            <a:r>
              <a:rPr b="1" lang="es-E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  +  6  H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Línea 20"/>
          <p:cNvSpPr/>
          <p:nvPr/>
        </p:nvSpPr>
        <p:spPr>
          <a:xfrm flipV="1">
            <a:off x="4343400" y="2438280"/>
            <a:ext cx="1371600" cy="457200"/>
          </a:xfrm>
          <a:prstGeom prst="line">
            <a:avLst/>
          </a:prstGeom>
          <a:ln w="22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Elipse 21"/>
          <p:cNvSpPr/>
          <p:nvPr/>
        </p:nvSpPr>
        <p:spPr>
          <a:xfrm>
            <a:off x="5638680" y="1219320"/>
            <a:ext cx="3110040" cy="1752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Biosíntesis de malonil-C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Línea 22"/>
          <p:cNvSpPr/>
          <p:nvPr/>
        </p:nvSpPr>
        <p:spPr>
          <a:xfrm>
            <a:off x="4572000" y="378936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1 CuadroTexto"/>
          <p:cNvSpPr/>
          <p:nvPr/>
        </p:nvSpPr>
        <p:spPr>
          <a:xfrm>
            <a:off x="6063840" y="1531800"/>
            <a:ext cx="22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  <a:ea typeface="Arial"/>
              </a:rPr>
              <a:t>Lanzadera de citr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Cuadro de texto 4"/>
          <p:cNvSpPr/>
          <p:nvPr/>
        </p:nvSpPr>
        <p:spPr>
          <a:xfrm>
            <a:off x="2556000" y="2060640"/>
            <a:ext cx="37447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losté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oval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Transcripción génic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Rectángulo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000"/>
                </a:solidFill>
                <a:latin typeface="Arial"/>
                <a:ea typeface="Arial"/>
              </a:rPr>
              <a:t>REGULACION DE LA BIOSINTESIS DE ACIDOS GRAS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Cuadro de texto 6"/>
          <p:cNvSpPr/>
          <p:nvPr/>
        </p:nvSpPr>
        <p:spPr>
          <a:xfrm>
            <a:off x="324000" y="3357720"/>
            <a:ext cx="2232000" cy="1169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ff"/>
                </a:solidFill>
                <a:latin typeface="Arial"/>
                <a:ea typeface="Arial"/>
              </a:rPr>
              <a:t>Acetil-Co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ff"/>
                </a:solidFill>
                <a:latin typeface="Arial"/>
                <a:ea typeface="Arial"/>
              </a:rPr>
              <a:t>carboxila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Autoforma 7"/>
          <p:cNvSpPr/>
          <p:nvPr/>
        </p:nvSpPr>
        <p:spPr>
          <a:xfrm>
            <a:off x="4429080" y="1700280"/>
            <a:ext cx="358920" cy="1657440"/>
          </a:xfrm>
          <a:custGeom>
            <a:avLst/>
            <a:gdLst>
              <a:gd name="textAreaLeft" fmla="*/ 229320 w 358920"/>
              <a:gd name="textAreaRight" fmla="*/ 359280 w 358920"/>
              <a:gd name="textAreaTop" fmla="*/ 43200 h 1657440"/>
              <a:gd name="textAreaBottom" fmla="*/ 1614240 h 16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Autoforma 8"/>
          <p:cNvSpPr/>
          <p:nvPr/>
        </p:nvSpPr>
        <p:spPr>
          <a:xfrm>
            <a:off x="4284720" y="1484280"/>
            <a:ext cx="431640" cy="1727280"/>
          </a:xfrm>
          <a:custGeom>
            <a:avLst/>
            <a:gdLst>
              <a:gd name="textAreaLeft" fmla="*/ 275760 w 431640"/>
              <a:gd name="textAreaRight" fmla="*/ 432000 w 43164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Elipse 9"/>
          <p:cNvSpPr/>
          <p:nvPr/>
        </p:nvSpPr>
        <p:spPr>
          <a:xfrm>
            <a:off x="4788000" y="1700280"/>
            <a:ext cx="50472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Elipse 10"/>
          <p:cNvSpPr/>
          <p:nvPr/>
        </p:nvSpPr>
        <p:spPr>
          <a:xfrm>
            <a:off x="4859280" y="2637000"/>
            <a:ext cx="504720" cy="43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Autoforma 11"/>
          <p:cNvSpPr/>
          <p:nvPr/>
        </p:nvSpPr>
        <p:spPr>
          <a:xfrm>
            <a:off x="4356000" y="3573360"/>
            <a:ext cx="432000" cy="1727280"/>
          </a:xfrm>
          <a:custGeom>
            <a:avLst/>
            <a:gdLst>
              <a:gd name="textAreaLeft" fmla="*/ 276120 w 432000"/>
              <a:gd name="textAreaRight" fmla="*/ 432360 w 43200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Elipse 12"/>
          <p:cNvSpPr/>
          <p:nvPr/>
        </p:nvSpPr>
        <p:spPr>
          <a:xfrm>
            <a:off x="4859280" y="3789360"/>
            <a:ext cx="50472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Elipse 13"/>
          <p:cNvSpPr/>
          <p:nvPr/>
        </p:nvSpPr>
        <p:spPr>
          <a:xfrm>
            <a:off x="4930920" y="4726080"/>
            <a:ext cx="50472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Cuadro de texto 14"/>
          <p:cNvSpPr/>
          <p:nvPr/>
        </p:nvSpPr>
        <p:spPr>
          <a:xfrm>
            <a:off x="5435640" y="177336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Citra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Cuadro de texto 15"/>
          <p:cNvSpPr/>
          <p:nvPr/>
        </p:nvSpPr>
        <p:spPr>
          <a:xfrm>
            <a:off x="5580000" y="2708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almitil-Co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Cuadro de texto 16"/>
          <p:cNvSpPr/>
          <p:nvPr/>
        </p:nvSpPr>
        <p:spPr>
          <a:xfrm>
            <a:off x="5580000" y="386064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Insul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Cuadro de texto 17"/>
          <p:cNvSpPr/>
          <p:nvPr/>
        </p:nvSpPr>
        <p:spPr>
          <a:xfrm>
            <a:off x="5580000" y="486900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Glucagón, Adrenal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Cuadro de texto 18"/>
          <p:cNvSpPr/>
          <p:nvPr/>
        </p:nvSpPr>
        <p:spPr>
          <a:xfrm>
            <a:off x="6732720" y="5877000"/>
            <a:ext cx="208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A.G. poliinsatur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Elipse 19"/>
          <p:cNvSpPr/>
          <p:nvPr/>
        </p:nvSpPr>
        <p:spPr>
          <a:xfrm>
            <a:off x="6083280" y="5948280"/>
            <a:ext cx="50472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E920-B251-4023-B560-3CAFAEF556F0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2 Rectángulo"/>
          <p:cNvSpPr/>
          <p:nvPr/>
        </p:nvSpPr>
        <p:spPr>
          <a:xfrm>
            <a:off x="179280" y="549360"/>
            <a:ext cx="87138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c000"/>
                </a:solidFill>
                <a:latin typeface="Arial Rounded MT Bold"/>
              </a:rPr>
              <a:t>La regulación hormonal produce un </a:t>
            </a:r>
            <a:r>
              <a:rPr b="0" lang="es-AR" sz="2000" spc="-1" strike="noStrike" u="sng">
                <a:solidFill>
                  <a:srgbClr val="ffc000"/>
                </a:solidFill>
                <a:uFillTx/>
                <a:latin typeface="Arial Rounded MT Bold"/>
              </a:rPr>
              <a:t>efecto inmediato</a:t>
            </a:r>
            <a:r>
              <a:rPr b="0" lang="es-AR" sz="2000" spc="-1" strike="noStrike">
                <a:solidFill>
                  <a:srgbClr val="ffc000"/>
                </a:solidFill>
                <a:latin typeface="Arial Rounded MT Bold"/>
              </a:rPr>
              <a:t>, de corto tiempo, a través de un mecanismo de fosforilación ó desfosforilación de la enzim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c000"/>
                </a:solidFill>
                <a:latin typeface="Arial Rounded MT Bold"/>
              </a:rPr>
              <a:t>La dieta actúa a nivel de la síntesis de la proteína enzimática por lo que el </a:t>
            </a:r>
            <a:r>
              <a:rPr b="0" lang="es-AR" sz="2000" spc="-1" strike="noStrike" u="sng">
                <a:solidFill>
                  <a:srgbClr val="ffc000"/>
                </a:solidFill>
                <a:uFillTx/>
                <a:latin typeface="Arial Rounded MT Bold"/>
              </a:rPr>
              <a:t>efecto es tardío ó mediato</a:t>
            </a:r>
            <a:r>
              <a:rPr b="0" lang="es-AR" sz="2000" spc="-1" strike="noStrike">
                <a:solidFill>
                  <a:srgbClr val="ffc000"/>
                </a:solidFill>
                <a:latin typeface="Arial Rounded MT Bold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c000"/>
                </a:solidFill>
                <a:latin typeface="Arial Rounded MT Bold"/>
              </a:rPr>
              <a:t>Así por ejemplo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1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1a1a"/>
                </a:solidFill>
                <a:latin typeface="Arial Rounded MT Bold"/>
              </a:rPr>
              <a:t>a)  una dieta rica en hidratos de carbono y/o proteínas, supera las necesidades energéticas de la célula, en consecuencia el acetil CoA que se produce en la degradación de dichos compuestos se utiliza para la síntesis de AG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c000"/>
                </a:solidFill>
                <a:latin typeface="Arial Rounded MT Bold"/>
              </a:rPr>
              <a:t>b) una dieta pobre en grasas no aporta la cantidad de lípidos suficientes para las distintas funciones celulares, en consecuencia se favorece la síntesis de ácidos gras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ángulo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000"/>
                </a:solidFill>
                <a:latin typeface="Arial"/>
                <a:ea typeface="Arial"/>
              </a:rPr>
              <a:t>ESQUEMA DE LA REGULACION DE LA BIOSINT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Cuadro de texto 5"/>
          <p:cNvSpPr/>
          <p:nvPr/>
        </p:nvSpPr>
        <p:spPr>
          <a:xfrm>
            <a:off x="3421080" y="1700280"/>
            <a:ext cx="107964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itra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Cuadro de texto 6"/>
          <p:cNvSpPr/>
          <p:nvPr/>
        </p:nvSpPr>
        <p:spPr>
          <a:xfrm>
            <a:off x="3276720" y="3166920"/>
            <a:ext cx="172872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cetil-Co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Cuadro de texto 7"/>
          <p:cNvSpPr/>
          <p:nvPr/>
        </p:nvSpPr>
        <p:spPr>
          <a:xfrm>
            <a:off x="3295800" y="4432320"/>
            <a:ext cx="172872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Malonil-Co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Cuadro de texto 8"/>
          <p:cNvSpPr/>
          <p:nvPr/>
        </p:nvSpPr>
        <p:spPr>
          <a:xfrm>
            <a:off x="3276720" y="5902200"/>
            <a:ext cx="201600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Palmitoil-Co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Línea 9"/>
          <p:cNvSpPr/>
          <p:nvPr/>
        </p:nvSpPr>
        <p:spPr>
          <a:xfrm>
            <a:off x="3924360" y="2276640"/>
            <a:ext cx="0" cy="720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Línea 10"/>
          <p:cNvSpPr/>
          <p:nvPr/>
        </p:nvSpPr>
        <p:spPr>
          <a:xfrm>
            <a:off x="3995640" y="3645000"/>
            <a:ext cx="0" cy="720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Línea 11"/>
          <p:cNvSpPr/>
          <p:nvPr/>
        </p:nvSpPr>
        <p:spPr>
          <a:xfrm>
            <a:off x="4067280" y="5084640"/>
            <a:ext cx="0" cy="179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Cuadro de texto 12"/>
          <p:cNvSpPr/>
          <p:nvPr/>
        </p:nvSpPr>
        <p:spPr>
          <a:xfrm>
            <a:off x="4067280" y="2349360"/>
            <a:ext cx="16570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ff"/>
                </a:solidFill>
                <a:latin typeface="Arial"/>
                <a:ea typeface="Arial"/>
              </a:rPr>
              <a:t>Citrato liasa</a:t>
            </a:r>
            <a:r>
              <a:rPr b="0" lang="es-ES" sz="18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Cuadro de texto 13"/>
          <p:cNvSpPr/>
          <p:nvPr/>
        </p:nvSpPr>
        <p:spPr>
          <a:xfrm>
            <a:off x="4140360" y="3789360"/>
            <a:ext cx="287964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ff"/>
                </a:solidFill>
                <a:latin typeface="Arial"/>
                <a:ea typeface="Arial"/>
              </a:rPr>
              <a:t>Acetil-CoA carboxilasa</a:t>
            </a:r>
            <a:r>
              <a:rPr b="0" lang="es-ES" sz="18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Línea 14"/>
          <p:cNvSpPr/>
          <p:nvPr/>
        </p:nvSpPr>
        <p:spPr>
          <a:xfrm>
            <a:off x="4067280" y="5300640"/>
            <a:ext cx="0" cy="1792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Línea 15"/>
          <p:cNvSpPr/>
          <p:nvPr/>
        </p:nvSpPr>
        <p:spPr>
          <a:xfrm>
            <a:off x="4067280" y="5554800"/>
            <a:ext cx="0" cy="1792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Línea 16"/>
          <p:cNvSpPr/>
          <p:nvPr/>
        </p:nvSpPr>
        <p:spPr>
          <a:xfrm>
            <a:off x="6443640" y="4653000"/>
            <a:ext cx="0" cy="144000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Línea 17"/>
          <p:cNvSpPr/>
          <p:nvPr/>
        </p:nvSpPr>
        <p:spPr>
          <a:xfrm>
            <a:off x="5508720" y="6093000"/>
            <a:ext cx="9349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Elipse 18"/>
          <p:cNvSpPr/>
          <p:nvPr/>
        </p:nvSpPr>
        <p:spPr>
          <a:xfrm>
            <a:off x="6156360" y="4149720"/>
            <a:ext cx="50472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Cuadro de texto 19"/>
          <p:cNvSpPr/>
          <p:nvPr/>
        </p:nvSpPr>
        <p:spPr>
          <a:xfrm>
            <a:off x="7415280" y="393372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Glucagón, Adrenal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Línea 20"/>
          <p:cNvSpPr/>
          <p:nvPr/>
        </p:nvSpPr>
        <p:spPr>
          <a:xfrm flipH="1">
            <a:off x="6804000" y="4365720"/>
            <a:ext cx="432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Línea 21"/>
          <p:cNvSpPr/>
          <p:nvPr/>
        </p:nvSpPr>
        <p:spPr>
          <a:xfrm>
            <a:off x="5292720" y="1844640"/>
            <a:ext cx="0" cy="43200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Línea 22"/>
          <p:cNvSpPr/>
          <p:nvPr/>
        </p:nvSpPr>
        <p:spPr>
          <a:xfrm>
            <a:off x="4643280" y="1844640"/>
            <a:ext cx="649440" cy="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Elipse 23"/>
          <p:cNvSpPr/>
          <p:nvPr/>
        </p:nvSpPr>
        <p:spPr>
          <a:xfrm>
            <a:off x="5435640" y="1700280"/>
            <a:ext cx="50472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Línea 24"/>
          <p:cNvSpPr/>
          <p:nvPr/>
        </p:nvSpPr>
        <p:spPr>
          <a:xfrm>
            <a:off x="2700360" y="3933720"/>
            <a:ext cx="1224000" cy="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Línea 25"/>
          <p:cNvSpPr/>
          <p:nvPr/>
        </p:nvSpPr>
        <p:spPr>
          <a:xfrm flipH="1">
            <a:off x="2700360" y="1844640"/>
            <a:ext cx="503280" cy="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Línea 26"/>
          <p:cNvSpPr/>
          <p:nvPr/>
        </p:nvSpPr>
        <p:spPr>
          <a:xfrm>
            <a:off x="2700360" y="1844640"/>
            <a:ext cx="0" cy="208908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Elipse 27"/>
          <p:cNvSpPr/>
          <p:nvPr/>
        </p:nvSpPr>
        <p:spPr>
          <a:xfrm>
            <a:off x="2124000" y="2708280"/>
            <a:ext cx="50508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Cuadro de texto 28"/>
          <p:cNvSpPr/>
          <p:nvPr/>
        </p:nvSpPr>
        <p:spPr>
          <a:xfrm>
            <a:off x="6300720" y="1700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Insul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Línea 29"/>
          <p:cNvSpPr/>
          <p:nvPr/>
        </p:nvSpPr>
        <p:spPr>
          <a:xfrm flipH="1">
            <a:off x="2123640" y="4653000"/>
            <a:ext cx="10796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Rectángulo 30"/>
          <p:cNvSpPr/>
          <p:nvPr/>
        </p:nvSpPr>
        <p:spPr>
          <a:xfrm>
            <a:off x="0" y="4730760"/>
            <a:ext cx="2109960" cy="93672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Carnitin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Acil transferasa 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(Acil. CoA al interior de l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Mitocondria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Elipse 31"/>
          <p:cNvSpPr/>
          <p:nvPr/>
        </p:nvSpPr>
        <p:spPr>
          <a:xfrm>
            <a:off x="2484360" y="4869000"/>
            <a:ext cx="505080" cy="43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Línea 32"/>
          <p:cNvSpPr/>
          <p:nvPr/>
        </p:nvSpPr>
        <p:spPr>
          <a:xfrm>
            <a:off x="5940360" y="220500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0913-B081-41A0-9771-FC06317030AD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3" name="Picture 2" descr=""/>
          <p:cNvPicPr/>
          <p:nvPr/>
        </p:nvPicPr>
        <p:blipFill>
          <a:blip r:embed="rId1"/>
          <a:stretch/>
        </p:blipFill>
        <p:spPr>
          <a:xfrm>
            <a:off x="347760" y="260280"/>
            <a:ext cx="85453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4688-94CB-4BDF-986E-43F13319BDF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5" name="Picture 2" descr=""/>
          <p:cNvPicPr/>
          <p:nvPr/>
        </p:nvPicPr>
        <p:blipFill>
          <a:blip r:embed="rId1"/>
          <a:stretch/>
        </p:blipFill>
        <p:spPr>
          <a:xfrm>
            <a:off x="468360" y="351000"/>
            <a:ext cx="8136000" cy="6102360"/>
          </a:xfrm>
          <a:prstGeom prst="rect">
            <a:avLst/>
          </a:prstGeom>
          <a:ln w="0">
            <a:noFill/>
          </a:ln>
        </p:spPr>
      </p:pic>
      <p:sp>
        <p:nvSpPr>
          <p:cNvPr id="1056" name="3 Conector recto"/>
          <p:cNvSpPr/>
          <p:nvPr/>
        </p:nvSpPr>
        <p:spPr>
          <a:xfrm>
            <a:off x="3276720" y="2205000"/>
            <a:ext cx="7905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4 CuadroTexto"/>
          <p:cNvSpPr/>
          <p:nvPr/>
        </p:nvSpPr>
        <p:spPr>
          <a:xfrm>
            <a:off x="6165720" y="4230720"/>
            <a:ext cx="143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600" spc="-1" strike="noStrike">
                <a:solidFill>
                  <a:srgbClr val="ff3300"/>
                </a:solidFill>
                <a:latin typeface="Arial"/>
                <a:ea typeface="Arial"/>
              </a:rPr>
              <a:t>deshidra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993080" cy="115272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 Narrow"/>
              </a:rPr>
              <a:t>METABOLISMO DE LIPIDOS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280360" cy="446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Biosíntesis de ácidos grasos saturad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Complejo multienzimático: Acido graso sintas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Regulación hormon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Requerimientos energétic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ABED-109C-4665-B97D-96F801A0F036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9" name="Picture 2" descr=""/>
          <p:cNvPicPr/>
          <p:nvPr/>
        </p:nvPicPr>
        <p:blipFill>
          <a:blip r:embed="rId1"/>
          <a:stretch/>
        </p:blipFill>
        <p:spPr>
          <a:xfrm>
            <a:off x="684360" y="512640"/>
            <a:ext cx="7848360" cy="5886720"/>
          </a:xfrm>
          <a:prstGeom prst="rect">
            <a:avLst/>
          </a:prstGeom>
          <a:ln w="0">
            <a:noFill/>
          </a:ln>
        </p:spPr>
      </p:pic>
      <p:sp>
        <p:nvSpPr>
          <p:cNvPr id="1060" name="2 CuadroTexto"/>
          <p:cNvSpPr/>
          <p:nvPr/>
        </p:nvSpPr>
        <p:spPr>
          <a:xfrm>
            <a:off x="7815960" y="37893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R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64AF-50FF-4E3E-8815-1FD376AD31C0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2" name="Picture 3" descr=""/>
          <p:cNvPicPr/>
          <p:nvPr/>
        </p:nvPicPr>
        <p:blipFill>
          <a:blip r:embed="rId1"/>
          <a:stretch/>
        </p:blipFill>
        <p:spPr>
          <a:xfrm>
            <a:off x="1403280" y="84240"/>
            <a:ext cx="6408720" cy="66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037E-E2AD-470D-9CE8-C484E441C084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2 Rectángulo"/>
          <p:cNvSpPr/>
          <p:nvPr/>
        </p:nvSpPr>
        <p:spPr>
          <a:xfrm>
            <a:off x="108000" y="122400"/>
            <a:ext cx="8712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s vegetales tienen las enzimas necesarias para producir insaturaciones desde la posición 9 del ácido graso hacia el carbono </a:t>
            </a:r>
            <a:r>
              <a:rPr b="1" lang="es-AR" sz="24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metilo terminal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r ejemplo, a partir del ácido oleico pueden sintetizar los ácidos: linoleico (18:2,  </a:t>
            </a:r>
            <a:r>
              <a:rPr b="1" lang="es-AR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9.12) y linolénico (18:3, </a:t>
            </a:r>
            <a:r>
              <a:rPr b="1" lang="es-AR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9,12,15)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s mamíferos no pueden sintetizarlos y por ello se consideran a los mismos,  ácidos grasos esenciales debiendo ser provistos por la diet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l ácido araquidónico (20:4 </a:t>
            </a:r>
            <a:r>
              <a:rPr b="1" lang="es-AR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, 8, 11, 14) es parcialmente indispensable ya que el organismo puede sintetizarlo si dispone de ácido linoleic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 animales la nueva doble unión se introduce entre la ya existente, en la porción de cadena proximal  al grupo carboxi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3694-02FE-4190-855A-7ECB6D1D80E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2 CuadroTexto"/>
          <p:cNvSpPr/>
          <p:nvPr/>
        </p:nvSpPr>
        <p:spPr>
          <a:xfrm>
            <a:off x="179280" y="0"/>
            <a:ext cx="8964720" cy="68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NCIONES BIOLOGICAS DE  AG POLIINSATUR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N AG ESCENC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EGRAN LÍPIDOS ESTRUCTURALES EN LAS CÉLULAS </a:t>
            </a:r>
            <a:r>
              <a:rPr b="1" lang="es-AR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MEMBRA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N PRECURSORES DE PROSTAGLANDINAS, TROMBOXANOS Y LEUCOTRIE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RTICIPAN EN LA CONSTITUCIÓN DE LOS ÉSTERES DE COLESTEROL EN PLASMA SANGUÍNE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 GENERAN ISÓMEROS TRANS EN EL PROCESO DE HIDROGENACIÓN DE ACEITES NATURALES </a:t>
            </a:r>
            <a:r>
              <a:rPr b="1" lang="es-AR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L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3 Flecha arriba"/>
          <p:cNvSpPr/>
          <p:nvPr/>
        </p:nvSpPr>
        <p:spPr>
          <a:xfrm>
            <a:off x="7454880" y="5805360"/>
            <a:ext cx="285840" cy="574920"/>
          </a:xfrm>
          <a:prstGeom prst="upArrow">
            <a:avLst>
              <a:gd name="adj1" fmla="val 50000"/>
              <a:gd name="adj2" fmla="val 49818"/>
            </a:avLst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E855-929E-44CD-B886-A35FF2A114D8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/>
          </p:nvPr>
        </p:nvSpPr>
        <p:spPr>
          <a:xfrm>
            <a:off x="0" y="174600"/>
            <a:ext cx="9144000" cy="667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uando la ingesta supera las necesidades energéticas, el exceso se almacena como reserva en forma de gras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Los restos de acetil-CoA provenientes de la </a:t>
            </a:r>
            <a:r>
              <a:rPr b="1" lang="el-GR" sz="2400" spc="-1" strike="noStrike">
                <a:solidFill>
                  <a:srgbClr val="ffff00"/>
                </a:solidFill>
                <a:latin typeface="Arial"/>
                <a:ea typeface="Arial"/>
              </a:rPr>
              <a:t>β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-oxidación y de la degradación de glucosa o de las cadenas carbonadas de algunos aac, pueden utilizarse para sintetizar nuevos A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stos se incorporan al glicerol para ser almacenados como grasa de depósi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La síntesis de AG de hasta 16 C ocurre en el citoplasma y se conoce como SINTESIS DE NO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La elongación de AG se lleva a cabo en las membranas del REL y la de los AG preexistentes se realiza en las mitocondri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 Narrow"/>
              </a:rPr>
              <a:t>Características generales de la Biosíntesis de ácidos grasos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07" name="Cuadro de texto 3"/>
          <p:cNvSpPr/>
          <p:nvPr/>
        </p:nvSpPr>
        <p:spPr>
          <a:xfrm>
            <a:off x="407880" y="26719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La biosíntesis de AG (lipogénesis)  tiene lugar en el CITOSOL, en plantas en los CLOROPLA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Cuadro de texto 4"/>
          <p:cNvSpPr/>
          <p:nvPr/>
        </p:nvSpPr>
        <p:spPr>
          <a:xfrm>
            <a:off x="468360" y="368316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s un proceso endergónico: Utiliza  AT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Cuadro de texto 5"/>
          <p:cNvSpPr/>
          <p:nvPr/>
        </p:nvSpPr>
        <p:spPr>
          <a:xfrm>
            <a:off x="4191120" y="32767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Cuadro de texto 6"/>
          <p:cNvSpPr/>
          <p:nvPr/>
        </p:nvSpPr>
        <p:spPr>
          <a:xfrm>
            <a:off x="496800" y="454644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Consume equivalentes de reducción : NAD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Cuadro de texto 7"/>
          <p:cNvSpPr/>
          <p:nvPr/>
        </p:nvSpPr>
        <p:spPr>
          <a:xfrm>
            <a:off x="407880" y="55306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s activa cuando el aporte energético es superior a las necesidades de la célul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Cuadro de texto 8"/>
          <p:cNvSpPr/>
          <p:nvPr/>
        </p:nvSpPr>
        <p:spPr>
          <a:xfrm>
            <a:off x="395280" y="1773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s muy activa en hígado, tejido adiposo, glándula mam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24720" cy="633564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Los 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AG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se sintetizan en citosol a partir de acetil-CoA, por adición sucesiva de estos fragmentos de 2 carbonos al extremo carboxilo de la cadena en crecimie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l Acetil-CoA que se produce en mitocondria debe estar disponible en citos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La membrana mitocondrial interna es impermeable a acetil-Co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l citrato es el compuesto que permite disponer de Acetil-CoA en citoso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7 Rectángulo"/>
          <p:cNvSpPr/>
          <p:nvPr/>
        </p:nvSpPr>
        <p:spPr>
          <a:xfrm>
            <a:off x="6093000" y="3179880"/>
            <a:ext cx="792000" cy="285480"/>
          </a:xfrm>
          <a:prstGeom prst="rect">
            <a:avLst/>
          </a:prstGeom>
          <a:solidFill>
            <a:srgbClr val="777777"/>
          </a:solidFill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6 Rectángulo"/>
          <p:cNvSpPr/>
          <p:nvPr/>
        </p:nvSpPr>
        <p:spPr>
          <a:xfrm>
            <a:off x="6156360" y="3073320"/>
            <a:ext cx="792000" cy="284400"/>
          </a:xfrm>
          <a:prstGeom prst="rect">
            <a:avLst/>
          </a:prstGeom>
          <a:solidFill>
            <a:srgbClr val="777777"/>
          </a:solidFill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6" name="Imagen 4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7273800" cy="5883120"/>
          </a:xfrm>
          <a:prstGeom prst="rect">
            <a:avLst/>
          </a:prstGeom>
          <a:ln w="9360">
            <a:solidFill>
              <a:srgbClr val="ff1a1a"/>
            </a:solidFill>
            <a:miter/>
          </a:ln>
        </p:spPr>
      </p:pic>
      <p:sp>
        <p:nvSpPr>
          <p:cNvPr id="817" name="Cuadro de texto 6"/>
          <p:cNvSpPr/>
          <p:nvPr/>
        </p:nvSpPr>
        <p:spPr>
          <a:xfrm>
            <a:off x="3348000" y="2492280"/>
            <a:ext cx="90000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Citrato sin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Cuadro de texto 7"/>
          <p:cNvSpPr/>
          <p:nvPr/>
        </p:nvSpPr>
        <p:spPr>
          <a:xfrm>
            <a:off x="5508720" y="2492280"/>
            <a:ext cx="86364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Citrato li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1 Estrella de 5 puntas"/>
          <p:cNvSpPr/>
          <p:nvPr/>
        </p:nvSpPr>
        <p:spPr>
          <a:xfrm>
            <a:off x="5796000" y="4491000"/>
            <a:ext cx="863640" cy="647640"/>
          </a:xfrm>
          <a:custGeom>
            <a:avLst/>
            <a:gdLst/>
            <a:ahLst/>
            <a:rect l="l" t="t" r="r" b="b"/>
            <a:pathLst>
              <a:path w="684076" h="648072">
                <a:moveTo>
                  <a:pt x="1" y="247541"/>
                </a:moveTo>
                <a:lnTo>
                  <a:pt x="252730" y="235799"/>
                </a:lnTo>
                <a:lnTo>
                  <a:pt x="342038" y="0"/>
                </a:lnTo>
                <a:lnTo>
                  <a:pt x="431346" y="235799"/>
                </a:lnTo>
                <a:lnTo>
                  <a:pt x="684075" y="247541"/>
                </a:lnTo>
                <a:lnTo>
                  <a:pt x="486542" y="405015"/>
                </a:lnTo>
                <a:lnTo>
                  <a:pt x="553429" y="648070"/>
                </a:lnTo>
                <a:lnTo>
                  <a:pt x="342038" y="509596"/>
                </a:lnTo>
                <a:lnTo>
                  <a:pt x="130647" y="648070"/>
                </a:lnTo>
                <a:lnTo>
                  <a:pt x="197534" y="405015"/>
                </a:lnTo>
                <a:lnTo>
                  <a:pt x="1" y="247541"/>
                </a:lnTo>
                <a:close/>
              </a:path>
            </a:pathLst>
          </a:custGeom>
          <a:noFill/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1 Rectángulo"/>
          <p:cNvSpPr/>
          <p:nvPr/>
        </p:nvSpPr>
        <p:spPr>
          <a:xfrm>
            <a:off x="324000" y="11592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  <a:ea typeface="Arial"/>
              </a:rPr>
              <a:t>SALIDA DE ACETILOS DE LA MITOCONDRIA AL CITOS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  <a:ea typeface="Arial"/>
              </a:rPr>
              <a:t>LANZADERA DE CITRA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1" name="3 Conector recto de flecha"/>
          <p:cNvCxnSpPr/>
          <p:nvPr/>
        </p:nvCxnSpPr>
        <p:spPr>
          <a:xfrm flipH="1" flipV="1">
            <a:off x="6318000" y="5589000"/>
            <a:ext cx="342000" cy="43236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arrow" w="med"/>
          </a:ln>
        </p:spPr>
      </p:cxnSp>
      <p:cxnSp>
        <p:nvCxnSpPr>
          <p:cNvPr id="822" name="5 Conector recto de flecha"/>
          <p:cNvCxnSpPr/>
          <p:nvPr/>
        </p:nvCxnSpPr>
        <p:spPr>
          <a:xfrm flipH="1" flipV="1">
            <a:off x="7092720" y="5229360"/>
            <a:ext cx="72000" cy="57636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arrow" w="med"/>
          </a:ln>
        </p:spPr>
      </p:cxnSp>
      <p:sp>
        <p:nvSpPr>
          <p:cNvPr id="823" name="1 CuadroTexto"/>
          <p:cNvSpPr/>
          <p:nvPr/>
        </p:nvSpPr>
        <p:spPr>
          <a:xfrm>
            <a:off x="2198520" y="4699080"/>
            <a:ext cx="51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Biotin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3 CuadroTexto"/>
          <p:cNvSpPr/>
          <p:nvPr/>
        </p:nvSpPr>
        <p:spPr>
          <a:xfrm>
            <a:off x="3448800" y="180324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  <a:ea typeface="Arial"/>
              </a:rPr>
              <a:t>AT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5" name="5 Conector recto de flecha"/>
          <p:cNvCxnSpPr/>
          <p:nvPr/>
        </p:nvCxnSpPr>
        <p:spPr>
          <a:xfrm flipV="1">
            <a:off x="3924000" y="1802880"/>
            <a:ext cx="1080" cy="18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 Narrow"/>
              </a:rPr>
              <a:t>Relación entre el Metabolismo de los H. de C. y la Biosíntesis de Ácidos Grasos</a:t>
            </a:r>
            <a:endParaRPr b="1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827" name="Imagen 4" descr="fi18p22"/>
          <p:cNvPicPr/>
          <p:nvPr/>
        </p:nvPicPr>
        <p:blipFill>
          <a:blip r:embed="rId1"/>
          <a:stretch/>
        </p:blipFill>
        <p:spPr>
          <a:xfrm>
            <a:off x="1295280" y="1447920"/>
            <a:ext cx="6912000" cy="5016240"/>
          </a:xfrm>
          <a:prstGeom prst="rect">
            <a:avLst/>
          </a:prstGeom>
          <a:ln w="0">
            <a:noFill/>
          </a:ln>
        </p:spPr>
      </p:pic>
      <p:sp>
        <p:nvSpPr>
          <p:cNvPr id="828" name="Cuadro de texto 7"/>
          <p:cNvSpPr/>
          <p:nvPr/>
        </p:nvSpPr>
        <p:spPr>
          <a:xfrm>
            <a:off x="990720" y="2362320"/>
            <a:ext cx="1295280" cy="368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CITOS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Cuadro de texto 8"/>
          <p:cNvSpPr/>
          <p:nvPr/>
        </p:nvSpPr>
        <p:spPr>
          <a:xfrm>
            <a:off x="1752480" y="1752480"/>
            <a:ext cx="160020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GLICOLI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Cuadro de texto 9"/>
          <p:cNvSpPr/>
          <p:nvPr/>
        </p:nvSpPr>
        <p:spPr>
          <a:xfrm>
            <a:off x="7086600" y="1905120"/>
            <a:ext cx="167652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Sintesis de ácidos gra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Rectángulo 10"/>
          <p:cNvSpPr/>
          <p:nvPr/>
        </p:nvSpPr>
        <p:spPr>
          <a:xfrm>
            <a:off x="3124080" y="1447920"/>
            <a:ext cx="160020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arbohidra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Rectángulo 11"/>
          <p:cNvSpPr/>
          <p:nvPr/>
        </p:nvSpPr>
        <p:spPr>
          <a:xfrm>
            <a:off x="3352680" y="2057400"/>
            <a:ext cx="12193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iruv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Rectángulo 12"/>
          <p:cNvSpPr/>
          <p:nvPr/>
        </p:nvSpPr>
        <p:spPr>
          <a:xfrm>
            <a:off x="3276720" y="2971800"/>
            <a:ext cx="114300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iruv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Rectángulo 13"/>
          <p:cNvSpPr/>
          <p:nvPr/>
        </p:nvSpPr>
        <p:spPr>
          <a:xfrm>
            <a:off x="1104840" y="4145040"/>
            <a:ext cx="1067040" cy="609480"/>
          </a:xfrm>
          <a:prstGeom prst="rect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Cuerp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cetón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Cuadro de texto 14"/>
          <p:cNvSpPr/>
          <p:nvPr/>
        </p:nvSpPr>
        <p:spPr>
          <a:xfrm>
            <a:off x="2286000" y="4648320"/>
            <a:ext cx="137160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cetogéne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Cuadro de texto 15"/>
          <p:cNvSpPr/>
          <p:nvPr/>
        </p:nvSpPr>
        <p:spPr>
          <a:xfrm>
            <a:off x="4191120" y="3930480"/>
            <a:ext cx="137160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Symbol"/>
                <a:ea typeface="Symbol"/>
              </a:rPr>
              <a:t>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oxid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Cuadro de texto 16"/>
          <p:cNvSpPr/>
          <p:nvPr/>
        </p:nvSpPr>
        <p:spPr>
          <a:xfrm>
            <a:off x="1752480" y="5181480"/>
            <a:ext cx="1600200" cy="30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MITOCONDR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Cuadro de texto 17"/>
          <p:cNvSpPr/>
          <p:nvPr/>
        </p:nvSpPr>
        <p:spPr>
          <a:xfrm>
            <a:off x="3429000" y="4295880"/>
            <a:ext cx="1574640" cy="368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cetil-C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Cuadro de texto 18"/>
          <p:cNvSpPr/>
          <p:nvPr/>
        </p:nvSpPr>
        <p:spPr>
          <a:xfrm>
            <a:off x="6248520" y="4281480"/>
            <a:ext cx="12952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cetil-Co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Cuadro de texto 19"/>
          <p:cNvSpPr/>
          <p:nvPr/>
        </p:nvSpPr>
        <p:spPr>
          <a:xfrm>
            <a:off x="5486400" y="4952880"/>
            <a:ext cx="9144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Citra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Cuadro de texto 20"/>
          <p:cNvSpPr/>
          <p:nvPr/>
        </p:nvSpPr>
        <p:spPr>
          <a:xfrm>
            <a:off x="4343400" y="4952880"/>
            <a:ext cx="7621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Citra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Cuadro de texto 21"/>
          <p:cNvSpPr/>
          <p:nvPr/>
        </p:nvSpPr>
        <p:spPr>
          <a:xfrm>
            <a:off x="7010280" y="5334120"/>
            <a:ext cx="14479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Oxalaceta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Cuadro de texto 23"/>
          <p:cNvSpPr/>
          <p:nvPr/>
        </p:nvSpPr>
        <p:spPr>
          <a:xfrm>
            <a:off x="6173640" y="1236600"/>
            <a:ext cx="114300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Ácidos gras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Rectángulo 24"/>
          <p:cNvSpPr/>
          <p:nvPr/>
        </p:nvSpPr>
        <p:spPr>
          <a:xfrm>
            <a:off x="5791320" y="2133720"/>
            <a:ext cx="106668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cil-Co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Rectángulo 25"/>
          <p:cNvSpPr/>
          <p:nvPr/>
        </p:nvSpPr>
        <p:spPr>
          <a:xfrm>
            <a:off x="5486400" y="3276720"/>
            <a:ext cx="13716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cil- Carnit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Rectángulo 26"/>
          <p:cNvSpPr/>
          <p:nvPr/>
        </p:nvSpPr>
        <p:spPr>
          <a:xfrm>
            <a:off x="4267080" y="3352680"/>
            <a:ext cx="114300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cil-Co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79280" y="44280"/>
            <a:ext cx="874872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 Narrow"/>
              </a:rPr>
              <a:t>Procedencia de Acetil CoA, Enzimas y Poder reductor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85316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ITRA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CITRATO LIAS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Acetil-CoA CARBOXIL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ACIDO GRASO SINT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NAD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Autoforma 12"/>
          <p:cNvSpPr/>
          <p:nvPr/>
        </p:nvSpPr>
        <p:spPr>
          <a:xfrm>
            <a:off x="2268360" y="5738760"/>
            <a:ext cx="358920" cy="1119240"/>
          </a:xfrm>
          <a:custGeom>
            <a:avLst/>
            <a:gdLst>
              <a:gd name="textAreaLeft" fmla="*/ 229320 w 358920"/>
              <a:gd name="textAreaRight" fmla="*/ 359280 w 358920"/>
              <a:gd name="textAreaTop" fmla="*/ 29160 h 1119240"/>
              <a:gd name="textAreaBottom" fmla="*/ 1090080 h 111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Cuadro de texto 13"/>
          <p:cNvSpPr/>
          <p:nvPr/>
        </p:nvSpPr>
        <p:spPr>
          <a:xfrm>
            <a:off x="2700360" y="5734080"/>
            <a:ext cx="304812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Vía de las Pentos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Cuadro de texto 14"/>
          <p:cNvSpPr/>
          <p:nvPr/>
        </p:nvSpPr>
        <p:spPr>
          <a:xfrm>
            <a:off x="2781360" y="6296040"/>
            <a:ext cx="272736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nzima má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Línea 15"/>
          <p:cNvSpPr/>
          <p:nvPr/>
        </p:nvSpPr>
        <p:spPr>
          <a:xfrm>
            <a:off x="4859280" y="537372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Elipse 16"/>
          <p:cNvSpPr/>
          <p:nvPr/>
        </p:nvSpPr>
        <p:spPr>
          <a:xfrm>
            <a:off x="5940360" y="4869000"/>
            <a:ext cx="2376720" cy="12240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omplej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multienzimá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4" name="Grupo 31"/>
          <p:cNvGrpSpPr/>
          <p:nvPr/>
        </p:nvGrpSpPr>
        <p:grpSpPr>
          <a:xfrm>
            <a:off x="3122640" y="1052640"/>
            <a:ext cx="6021360" cy="2604960"/>
            <a:chOff x="3122640" y="1052640"/>
            <a:chExt cx="6021360" cy="2604960"/>
          </a:xfrm>
        </p:grpSpPr>
        <p:grpSp>
          <p:nvGrpSpPr>
            <p:cNvPr id="855" name="Grupo 29"/>
            <p:cNvGrpSpPr/>
            <p:nvPr/>
          </p:nvGrpSpPr>
          <p:grpSpPr>
            <a:xfrm>
              <a:off x="3122640" y="1052640"/>
              <a:ext cx="6021360" cy="1082160"/>
              <a:chOff x="3122640" y="1052640"/>
              <a:chExt cx="6021360" cy="1082160"/>
            </a:xfrm>
          </p:grpSpPr>
          <p:grpSp>
            <p:nvGrpSpPr>
              <p:cNvPr id="856" name="Grupo 26"/>
              <p:cNvGrpSpPr/>
              <p:nvPr/>
            </p:nvGrpSpPr>
            <p:grpSpPr>
              <a:xfrm>
                <a:off x="3122640" y="1690560"/>
                <a:ext cx="6021360" cy="444240"/>
                <a:chOff x="3122640" y="1690560"/>
                <a:chExt cx="6021360" cy="444240"/>
              </a:xfrm>
            </p:grpSpPr>
            <p:sp>
              <p:nvSpPr>
                <p:cNvPr id="857" name="Autoforma 4"/>
                <p:cNvSpPr/>
                <p:nvPr/>
              </p:nvSpPr>
              <p:spPr>
                <a:xfrm>
                  <a:off x="3122640" y="1766520"/>
                  <a:ext cx="990720" cy="304920"/>
                </a:xfrm>
                <a:custGeom>
                  <a:avLst/>
                  <a:gdLst>
                    <a:gd name="textAreaLeft" fmla="*/ 173160 w 990720"/>
                    <a:gd name="textAreaRight" fmla="*/ 718200 w 990720"/>
                    <a:gd name="textAreaTop" fmla="*/ 40680 h 304920"/>
                    <a:gd name="textAreaBottom" fmla="*/ 26424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11880" y="0"/>
                      </a:lnTo>
                      <a:arcTo wR="7560" hR="21600" stAng="-5400000" swAng="2682637"/>
                      <a:lnTo>
                        <a:pt x="21168" y="14400"/>
                      </a:lnTo>
                      <a:lnTo>
                        <a:pt x="17280" y="21600"/>
                      </a:lnTo>
                      <a:lnTo>
                        <a:pt x="12528" y="14400"/>
                      </a:lnTo>
                      <a:lnTo>
                        <a:pt x="14688" y="14400"/>
                      </a:lnTo>
                      <a:arcTo wR="7560" hR="21600" stAng="-2717363" swAng="-2325203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  <a:path fill="darkenLess"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7560" y="0"/>
                      </a:lnTo>
                      <a:arcTo wR="7560" hR="21600" stAng="-5400000" swAng="357435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Cuadro de texto 5"/>
                <p:cNvSpPr/>
                <p:nvPr/>
              </p:nvSpPr>
              <p:spPr>
                <a:xfrm>
                  <a:off x="4418280" y="1766520"/>
                  <a:ext cx="1752480" cy="368280"/>
                </a:xfrm>
                <a:prstGeom prst="rect">
                  <a:avLst/>
                </a:prstGeom>
                <a:solidFill>
                  <a:srgbClr val="f9f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CETIL-CoA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Cuadro de texto 6"/>
                <p:cNvSpPr/>
                <p:nvPr/>
              </p:nvSpPr>
              <p:spPr>
                <a:xfrm>
                  <a:off x="7391520" y="1766520"/>
                  <a:ext cx="1752480" cy="368280"/>
                </a:xfrm>
                <a:prstGeom prst="rect">
                  <a:avLst/>
                </a:prstGeom>
                <a:solidFill>
                  <a:srgbClr val="f9f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ALONIL-CoA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Autoforma 7"/>
                <p:cNvSpPr/>
                <p:nvPr/>
              </p:nvSpPr>
              <p:spPr>
                <a:xfrm>
                  <a:off x="6475680" y="1690560"/>
                  <a:ext cx="838080" cy="304560"/>
                </a:xfrm>
                <a:custGeom>
                  <a:avLst/>
                  <a:gdLst>
                    <a:gd name="textAreaLeft" fmla="*/ 146520 w 838080"/>
                    <a:gd name="textAreaRight" fmla="*/ 607680 w 838080"/>
                    <a:gd name="textAreaTop" fmla="*/ 40680 h 304560"/>
                    <a:gd name="textAreaBottom" fmla="*/ 2638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11880" y="0"/>
                      </a:lnTo>
                      <a:arcTo wR="7560" hR="21600" stAng="-5400000" swAng="2682637"/>
                      <a:lnTo>
                        <a:pt x="21168" y="14400"/>
                      </a:lnTo>
                      <a:lnTo>
                        <a:pt x="17280" y="21600"/>
                      </a:lnTo>
                      <a:lnTo>
                        <a:pt x="12528" y="14400"/>
                      </a:lnTo>
                      <a:lnTo>
                        <a:pt x="14688" y="14400"/>
                      </a:lnTo>
                      <a:arcTo wR="7560" hR="21600" stAng="-2717363" swAng="-2325203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  <a:path fill="darkenLess"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7560" y="0"/>
                      </a:lnTo>
                      <a:arcTo wR="7560" hR="21600" stAng="-5400000" swAng="357435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Elipse 8"/>
              <p:cNvSpPr/>
              <p:nvPr/>
            </p:nvSpPr>
            <p:spPr>
              <a:xfrm>
                <a:off x="6372360" y="1052640"/>
                <a:ext cx="914400" cy="60948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T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62" name="Autoforma 10"/>
            <p:cNvSpPr/>
            <p:nvPr/>
          </p:nvSpPr>
          <p:spPr>
            <a:xfrm rot="5278800">
              <a:off x="7619760" y="2512440"/>
              <a:ext cx="1066320" cy="304920"/>
            </a:xfrm>
            <a:custGeom>
              <a:avLst/>
              <a:gdLst>
                <a:gd name="textAreaLeft" fmla="*/ 166320 w 1066320"/>
                <a:gd name="textAreaRight" fmla="*/ 933120 w 106632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Cuadro de texto 11"/>
            <p:cNvSpPr/>
            <p:nvPr/>
          </p:nvSpPr>
          <p:spPr>
            <a:xfrm>
              <a:off x="7620120" y="3289320"/>
              <a:ext cx="1295280" cy="368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IL-Co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Línea 17"/>
            <p:cNvSpPr/>
            <p:nvPr/>
          </p:nvSpPr>
          <p:spPr>
            <a:xfrm>
              <a:off x="6170760" y="2060640"/>
              <a:ext cx="1904760" cy="53280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5" name="Grupo 30"/>
          <p:cNvGrpSpPr/>
          <p:nvPr/>
        </p:nvGrpSpPr>
        <p:grpSpPr>
          <a:xfrm>
            <a:off x="1403280" y="2900520"/>
            <a:ext cx="5426280" cy="1058040"/>
            <a:chOff x="1403280" y="2900520"/>
            <a:chExt cx="5426280" cy="1058040"/>
          </a:xfrm>
        </p:grpSpPr>
        <p:sp>
          <p:nvSpPr>
            <p:cNvPr id="866" name="Cuadro de texto 19"/>
            <p:cNvSpPr/>
            <p:nvPr/>
          </p:nvSpPr>
          <p:spPr>
            <a:xfrm>
              <a:off x="1403280" y="3260880"/>
              <a:ext cx="158436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ITR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Línea 20"/>
            <p:cNvSpPr/>
            <p:nvPr/>
          </p:nvSpPr>
          <p:spPr>
            <a:xfrm>
              <a:off x="3060720" y="3476520"/>
              <a:ext cx="15112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Cuadro de texto 21"/>
            <p:cNvSpPr/>
            <p:nvPr/>
          </p:nvSpPr>
          <p:spPr>
            <a:xfrm>
              <a:off x="5051520" y="2900520"/>
              <a:ext cx="17524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ETIL-Co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Cuadro de texto 22"/>
            <p:cNvSpPr/>
            <p:nvPr/>
          </p:nvSpPr>
          <p:spPr>
            <a:xfrm>
              <a:off x="5076720" y="3548160"/>
              <a:ext cx="175284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xalacetat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Cuadro de texto 23"/>
            <p:cNvSpPr/>
            <p:nvPr/>
          </p:nvSpPr>
          <p:spPr>
            <a:xfrm>
              <a:off x="5580000" y="32148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+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Cuadro de texto 24"/>
            <p:cNvSpPr/>
            <p:nvPr/>
          </p:nvSpPr>
          <p:spPr>
            <a:xfrm>
              <a:off x="2987640" y="3621240"/>
              <a:ext cx="187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TP      ADP + P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Autoforma 25"/>
            <p:cNvSpPr/>
            <p:nvPr/>
          </p:nvSpPr>
          <p:spPr>
            <a:xfrm>
              <a:off x="3492360" y="3548160"/>
              <a:ext cx="576360" cy="144360"/>
            </a:xfrm>
            <a:custGeom>
              <a:avLst/>
              <a:gdLst>
                <a:gd name="textAreaLeft" fmla="*/ 100800 w 576360"/>
                <a:gd name="textAreaRight" fmla="*/ 417960 w 576360"/>
                <a:gd name="textAreaTop" fmla="*/ 19080 h 144360"/>
                <a:gd name="textAreaBottom" fmla="*/ 12528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3" name="Línea 27"/>
          <p:cNvSpPr/>
          <p:nvPr/>
        </p:nvSpPr>
        <p:spPr>
          <a:xfrm>
            <a:off x="4932360" y="4581360"/>
            <a:ext cx="57636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Cuadro de texto 28"/>
          <p:cNvSpPr/>
          <p:nvPr/>
        </p:nvSpPr>
        <p:spPr>
          <a:xfrm>
            <a:off x="5508720" y="4292640"/>
            <a:ext cx="3406680" cy="4291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  <a:ea typeface="Arial"/>
              </a:rPr>
              <a:t>Síntesis de malonil-Co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2:06:53Z</dcterms:created>
  <dc:creator>Fanny</dc:creator>
  <dc:description/>
  <dc:language>en-US</dc:language>
  <cp:lastModifiedBy>Fanny Zirulnik</cp:lastModifiedBy>
  <dcterms:modified xsi:type="dcterms:W3CDTF">2016-08-30T21:56:08Z</dcterms:modified>
  <cp:revision>167</cp:revision>
  <dc:subject/>
  <dc:title>Presentación de PowerPoint</dc:title>
</cp:coreProperties>
</file>